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6.png" ContentType="image/png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F23F-D6F8-4401-9A81-B1DD74BF5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10A9-88B3-4973-92AD-B34B3831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0DE-74E8-4B79-9DB4-B27055A0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92B2-3D81-46A6-9C72-11BFA12A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C055-AB14-49B2-96F6-5E78D8150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126B-4840-4D33-90E5-29C5B07D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EDEE0-D95A-4883-9578-623AB056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5F7A-45F5-4AAA-B2D8-0F779D9E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545D-D12E-4672-9A6D-EECBAE09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48C41-0759-4522-A42D-FAE578BC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FB79-F70D-4326-8FDB-E42FC758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151F-0112-4056-BDC8-579DC3BBF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A510-F058-4BDF-B4B2-85CDE27F4F9A}" type="slidenum">
              <a:rPr b="0" lang="es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96960" y="2138400"/>
            <a:ext cx="7835760" cy="359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800" spc="-1" strike="noStrike">
                <a:solidFill>
                  <a:srgbClr val="c00000"/>
                </a:solidFill>
                <a:latin typeface="Calibri"/>
              </a:rPr>
              <a:t>Stories behind a pictur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8" descr="http://www.canalgif.net/Gifs-animados/Comida/Puestos-de-comida-ambulante/Puesto-de-comida-ambulante-03.gif"/>
          <p:cNvPicPr/>
          <p:nvPr/>
        </p:nvPicPr>
        <p:blipFill>
          <a:blip r:embed="rId1"/>
          <a:stretch/>
        </p:blipFill>
        <p:spPr>
          <a:xfrm>
            <a:off x="6516720" y="3789360"/>
            <a:ext cx="19429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85480" y="713880"/>
            <a:ext cx="8358120" cy="7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a6a6a6"/>
                </a:solidFill>
                <a:latin typeface="Calibri"/>
              </a:rPr>
              <a:t>What do these people have in comm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E:\Mercados mamá\BARRIO CHINO RECORTADA.jpg"/>
          <p:cNvPicPr/>
          <p:nvPr/>
        </p:nvPicPr>
        <p:blipFill>
          <a:blip r:embed="rId1"/>
          <a:stretch/>
        </p:blipFill>
        <p:spPr>
          <a:xfrm>
            <a:off x="3214800" y="3143160"/>
            <a:ext cx="2643120" cy="3595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8" descr="E:\Mercados mamá\SEÑORA RECORTADA 2.jpg"/>
          <p:cNvPicPr/>
          <p:nvPr/>
        </p:nvPicPr>
        <p:blipFill>
          <a:blip r:embed="rId2"/>
          <a:stretch/>
        </p:blipFill>
        <p:spPr>
          <a:xfrm rot="20960400">
            <a:off x="212760" y="2255760"/>
            <a:ext cx="3301920" cy="2762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E:\Mercados mamá\MAS MERCADOS CRIS\_DSC1235 (Small)_MEJORADA.jpg"/>
          <p:cNvPicPr/>
          <p:nvPr/>
        </p:nvPicPr>
        <p:blipFill>
          <a:blip r:embed="rId3"/>
          <a:stretch/>
        </p:blipFill>
        <p:spPr>
          <a:xfrm rot="552000">
            <a:off x="5919480" y="1814400"/>
            <a:ext cx="2428920" cy="3646440"/>
          </a:xfrm>
          <a:prstGeom prst="rect">
            <a:avLst/>
          </a:prstGeom>
          <a:ln w="0">
            <a:noFill/>
          </a:ln>
        </p:spPr>
      </p:pic>
      <p:sp>
        <p:nvSpPr>
          <p:cNvPr id="47" name="9 CuadroTexto"/>
          <p:cNvSpPr/>
          <p:nvPr/>
        </p:nvSpPr>
        <p:spPr>
          <a:xfrm rot="20886000">
            <a:off x="43560" y="1677960"/>
            <a:ext cx="259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alibri"/>
              </a:rPr>
              <a:t>Snoozing  on the counter.  </a:t>
            </a:r>
            <a:r>
              <a:rPr b="1" i="1" lang="es-ES" sz="1600" spc="-1" strike="noStrike">
                <a:solidFill>
                  <a:srgbClr val="ffffff"/>
                </a:solidFill>
                <a:latin typeface="Calibri"/>
              </a:rPr>
              <a:t>Mercado</a:t>
            </a:r>
            <a:r>
              <a:rPr b="1" lang="es-E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es-ES" sz="1600" spc="-1" strike="noStrike">
                <a:solidFill>
                  <a:srgbClr val="ffffff"/>
                </a:solidFill>
                <a:latin typeface="Calibri"/>
              </a:rPr>
              <a:t>do Bolhao</a:t>
            </a:r>
            <a:r>
              <a:rPr b="1" lang="es-ES" sz="1600" spc="-1" strike="noStrike">
                <a:solidFill>
                  <a:srgbClr val="ffffff"/>
                </a:solidFill>
                <a:latin typeface="Calibri"/>
              </a:rPr>
              <a:t>, Por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10 CuadroTexto"/>
          <p:cNvSpPr/>
          <p:nvPr/>
        </p:nvSpPr>
        <p:spPr>
          <a:xfrm>
            <a:off x="0" y="5715000"/>
            <a:ext cx="32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“</a:t>
            </a: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Anyone cares for some dragon fruit and lychees?” </a:t>
            </a:r>
            <a:r>
              <a:rPr b="1" i="1" lang="es-ES" sz="1400" spc="-1" strike="noStrike">
                <a:solidFill>
                  <a:srgbClr val="ffffff"/>
                </a:solidFill>
                <a:latin typeface="Calibri"/>
              </a:rPr>
              <a:t>Chinatown</a:t>
            </a:r>
            <a:r>
              <a:rPr b="1" lang="es-ES" sz="1400" spc="-1" strike="noStrike">
                <a:solidFill>
                  <a:srgbClr val="ffffff"/>
                </a:solidFill>
                <a:latin typeface="Calibri"/>
              </a:rPr>
              <a:t>, New Yor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1 CuadroTexto"/>
          <p:cNvSpPr/>
          <p:nvPr/>
        </p:nvSpPr>
        <p:spPr>
          <a:xfrm>
            <a:off x="5929200" y="5500800"/>
            <a:ext cx="292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alibri"/>
              </a:rPr>
              <a:t>Caramel-coated almonds </a:t>
            </a:r>
            <a:r>
              <a:rPr b="1" i="1" lang="es-ES" sz="1600" spc="-1" strike="noStrike">
                <a:solidFill>
                  <a:srgbClr val="ffffff"/>
                </a:solidFill>
                <a:latin typeface="Calibri"/>
              </a:rPr>
              <a:t>‘on the road’. Capela</a:t>
            </a:r>
            <a:r>
              <a:rPr b="1" lang="es-E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es-ES" sz="1600" spc="-1" strike="noStrike">
                <a:solidFill>
                  <a:srgbClr val="ffffff"/>
                </a:solidFill>
                <a:latin typeface="Calibri"/>
              </a:rPr>
              <a:t>das</a:t>
            </a:r>
            <a:r>
              <a:rPr b="1" lang="es-ES" sz="1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es-ES" sz="1600" spc="-1" strike="noStrike">
                <a:solidFill>
                  <a:srgbClr val="ffffff"/>
                </a:solidFill>
                <a:latin typeface="Calibri"/>
              </a:rPr>
              <a:t>Almas</a:t>
            </a:r>
            <a:r>
              <a:rPr b="1" lang="es-ES" sz="1600" spc="-1" strike="noStrike">
                <a:solidFill>
                  <a:srgbClr val="ffffff"/>
                </a:solidFill>
                <a:latin typeface="Calibri"/>
              </a:rPr>
              <a:t>, Por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571680"/>
            <a:ext cx="8115120" cy="84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7f7f7f"/>
                </a:solidFill>
                <a:latin typeface="Calibri"/>
              </a:rPr>
              <a:t>What’s the story behind the picture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7120" y="1571760"/>
            <a:ext cx="842976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040"/>
                </a:solidFill>
                <a:latin typeface="Californian FB"/>
              </a:rPr>
              <a:t>Use your picture to tell the story behind it. Discuss the following aspects with your partner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fornian FB"/>
              </a:rPr>
              <a:t>Family background: information about their famil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fornian FB"/>
              </a:rPr>
              <a:t>What led them to their current occup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alifornian FB"/>
              </a:rPr>
              <a:t>What’s their life li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3 CuadroTexto"/>
          <p:cNvSpPr/>
          <p:nvPr/>
        </p:nvSpPr>
        <p:spPr>
          <a:xfrm>
            <a:off x="0" y="5715000"/>
            <a:ext cx="7858080" cy="1130040"/>
          </a:xfrm>
          <a:prstGeom prst="rect">
            <a:avLst/>
          </a:prstGeom>
          <a:solidFill>
            <a:srgbClr val="ffffff"/>
          </a:soli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7f7f7f"/>
                </a:solidFill>
                <a:latin typeface="Californian FB"/>
              </a:rPr>
              <a:t>          </a:t>
            </a:r>
            <a:r>
              <a:rPr b="1" lang="es-ES" sz="3200" spc="-1" strike="noStrike">
                <a:solidFill>
                  <a:srgbClr val="7f7f7f"/>
                </a:solidFill>
                <a:latin typeface="Californian FB"/>
              </a:rPr>
              <a:t>Give as many details as possi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s://i0.wp.com/24.media.tumblr.com/eb843c799502fd0235accc3efe4f3bd2/tumblr_mh0aj3T6Yn1qg5xklo1_r1_1280.gif"/>
          <p:cNvPicPr/>
          <p:nvPr/>
        </p:nvPicPr>
        <p:blipFill>
          <a:blip r:embed="rId1"/>
          <a:stretch/>
        </p:blipFill>
        <p:spPr>
          <a:xfrm>
            <a:off x="7429680" y="5572080"/>
            <a:ext cx="14284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 rot="546600">
            <a:off x="4803480" y="745560"/>
            <a:ext cx="3568680" cy="132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a6a6a6"/>
                </a:solidFill>
                <a:latin typeface="Calibri"/>
              </a:rPr>
              <a:t> </a:t>
            </a:r>
            <a:r>
              <a:rPr b="1" lang="es-ES" sz="5400" spc="-1" strike="noStrike">
                <a:solidFill>
                  <a:srgbClr val="a6a6a6"/>
                </a:solidFill>
                <a:latin typeface="Calibri"/>
              </a:rPr>
              <a:t>Procedure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2060640"/>
            <a:ext cx="85075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953735"/>
                </a:solidFill>
                <a:latin typeface="Calibri"/>
              </a:rPr>
              <a:t>(Activity aimed at a group of 18 to 24 students.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alibri"/>
              </a:rPr>
              <a:t>Students get together in groups of 3 or 4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alibri"/>
              </a:rPr>
              <a:t>The teacher assigns each picture to two different groups, so that each group comes up with one different story behind the same pictur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alibri"/>
              </a:rPr>
              <a:t>Eventually each group reads the stories out loud for the class to vote for the best on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Calibri"/>
              </a:rPr>
              <a:t>Then students comment on the reasons for their choic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9"/>
          <p:cNvSpPr/>
          <p:nvPr/>
        </p:nvSpPr>
        <p:spPr>
          <a:xfrm>
            <a:off x="460440" y="16020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5" descr="http://almendrasartesanasdeujue.es/onewebstatic/10d94259c1-Garrapi%C3%B1adas.%20Almendras%20garrapi%C3%B1adas%20004.jpg"/>
          <p:cNvPicPr/>
          <p:nvPr/>
        </p:nvPicPr>
        <p:blipFill>
          <a:blip r:embed="rId1"/>
          <a:stretch/>
        </p:blipFill>
        <p:spPr>
          <a:xfrm>
            <a:off x="1898640" y="219240"/>
            <a:ext cx="144792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9" descr="http://4.bp.blogspot.com/_iFCQmBA0Hb8/TPF2iYSp-ZI/AAAAAAAABWk/HANtbT_rA8g/s640/Rosca+Gallega.jpg"/>
          <p:cNvPicPr/>
          <p:nvPr/>
        </p:nvPicPr>
        <p:blipFill>
          <a:blip r:embed="rId2"/>
          <a:stretch/>
        </p:blipFill>
        <p:spPr>
          <a:xfrm>
            <a:off x="2286000" y="1214280"/>
            <a:ext cx="1454040" cy="1224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1" descr="http://www.cruciancontessa.com/wp-content/uploads/2013/10/Dragon-Fruit-5.jpg"/>
          <p:cNvPicPr/>
          <p:nvPr/>
        </p:nvPicPr>
        <p:blipFill>
          <a:blip r:embed="rId3"/>
          <a:stretch/>
        </p:blipFill>
        <p:spPr>
          <a:xfrm>
            <a:off x="246240" y="617400"/>
            <a:ext cx="1733400" cy="11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7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7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7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9T13:20:06Z</dcterms:created>
  <dc:creator>.</dc:creator>
  <dc:description/>
  <dc:language>en-US</dc:language>
  <cp:lastModifiedBy>HSajons</cp:lastModifiedBy>
  <dcterms:modified xsi:type="dcterms:W3CDTF">2015-05-27T15:40:45Z</dcterms:modified>
  <cp:revision>33</cp:revision>
  <dc:subject/>
  <dc:title>Diapositiva 1</dc:title>
</cp:coreProperties>
</file>