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B46-787A-4A92-89FB-BF4717814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247A-AEFC-485C-84C5-6D6121C3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C50A-BACF-404B-B826-B5A68B1A3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0D84-7EB1-4101-9B6C-60FD325C6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7CDBB-70CD-4D48-A9E9-8A302000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1106-937A-4263-8820-38C2E1175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4F9A8-C502-4602-A39B-39431355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7F67-FBC6-4085-A322-BDA980C54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AC65-2840-4096-8D35-FD5386FAF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7B10-D607-44FB-ACE2-58FED51D1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95B0-CD21-46A3-A22B-800D590E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2917-FB42-484F-BFD2-45CCF3042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E192-949B-48D3-AB88-F965AA79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ED66-08BD-4EBB-808D-18B56A95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B1B5D-66D1-4ADA-92B7-B9486385E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EB12C-FC11-4409-92A5-EDA1D44B9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BFAB-D47C-4929-B339-85155ACEF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35CB2E-E302-4856-B69E-7AA3CA6D0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7A488D-7351-466A-9414-09285D480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30E08-4F2E-4519-9348-5F80C6C55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E2F36-6DFC-4183-BFDD-647D225A0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8E903-075F-4C40-A514-BDC0B616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FA19-569F-48D4-A2D9-63EA23DAA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5D3F7-1B40-4663-AC87-E1AF2922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F3E93A-31F3-4B4C-A59A-DF5789E9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BC47A-282C-4786-B12A-2A7C264D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3A893-820C-4D9E-9978-08CB350B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76DD5-9360-4953-A7AF-37C7E2B0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62BAC6-008E-467A-895C-15A27E29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F7561-78DC-48E4-8854-B0EA01656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9C66B-5708-401E-BBAE-D54670E9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71A17-5B87-412A-9745-FC4B52B62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2F25E-0882-4967-BD06-5E5F7EE4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396E-51A4-4F70-8CD0-36F3BDF4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00CAD-952B-424F-B0C8-FCFB0F73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887EEF-FF2B-47F4-A7B2-B2DAE844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96DCD-B400-495C-8ED1-C8944B0B6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5AFA6-BCD0-4BC4-B11E-FABB7F47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A6086-6306-4167-B489-F3A2C8A7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7192D-2927-4AB9-A08B-9162C0B51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0A5BC-DE69-410C-8C72-123AEDB4A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18AAC-3731-4C01-8B36-3DE48BFDA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1E71D-B417-4F03-A4CC-42A3B038F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9B8AAC-C853-431D-B3E7-A1A852A5D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B8AB-59CF-475A-972C-424585D0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16EFA-3682-4DBE-94B3-9516E7FC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1B49B-8DB4-40D7-8686-18855AD74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59A26-FAFE-4370-9AE3-C139A5566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70389-FD0F-4C2E-B00E-FA4AD450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61F3A-F6B9-4EA7-85CB-818975EB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2B756-1760-43F8-ABD2-E1488840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70D2DA-373C-449E-A9F6-56A5F208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43B76-0F66-4F9B-A6C6-69C53FA2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2C6A9-48FC-4F1A-A422-030F76B3B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ABEBA-1CBE-447E-BE5F-BD9FBCBEB9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F398-26A5-4B72-BEB5-074E1B1B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91A790-7E51-4A5E-85E3-CB248A14A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AB9AD5-3CD6-4F52-A6C9-7DED30E27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16106-FFB9-4BC4-A648-59792CCD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B1E4C-3A39-403A-918F-6FA4A94C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81EA4-1898-4570-87E8-F0045F1A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250A3-C336-46E4-A178-BC3B2D2A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871EE-78BC-4087-BD2F-9EFA66161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BF0B2C-D28A-4073-91F0-119CAC8B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4BBF8-5F25-4F46-94E3-9FB71B0A1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308D12-75F1-443C-9EBD-A92CA72F8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842E-C396-4BC0-9325-967F6D2A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4DD67-DDA2-4663-AE1B-19EDC8521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B8A7E-01DA-4AA9-8F36-90438D82D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49DF5-5867-40DD-8D48-6FBE9F802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52CDCF-DD2C-4FB4-B8BA-81CB210DE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6EC1D-04F6-421E-AE8A-E8C6A158F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7A1F1-A52B-4F42-9859-39A0FF1F5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8614D-D35B-4ED2-ACD3-07C4660A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FF90D-C238-4386-A84C-028D7E82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4ACB3-B015-41FA-BC9B-6B5D2125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25A93-0ECA-4F0F-B9E3-44023CB0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A1E1-7912-45BF-B890-CED194F7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1D567-1E5E-47BA-8578-86BCE347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FBFCEB-1A95-4920-A15F-7EB507F1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854D4-5178-4A96-8FEC-45C98BA7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29DAEE-DCDF-4760-94A2-1234FC7A4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19F27-84B7-4442-B903-12AAC4115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851B-A092-4EDE-AC21-5D78202F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3133-8203-4056-8DED-FE1D1F91C700}" type="slidenum"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fffe9">
              <a:alpha val="33000"/>
            </a:srgbClr>
          </a:solidFill>
          <a:ln cap="rnd" w="3240">
            <a:solidFill>
              <a:srgbClr val="ffef5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fb1"/>
            </a:solidFill>
            <a:miter/>
          </a:ln>
          <a:effectLst>
            <a:outerShdw dist="12600" dir="5400000" blurRad="0" rotWithShape="0">
              <a:srgbClr val="cec060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7 Elipse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7 Elipse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8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DDFDE-4E62-4CCE-BBAC-B28103F79F95}" type="slidenum"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9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7 Elipse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7 Elipse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8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e0752f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989B-5D54-4603-84C4-AB9EDF48C3AF}" type="slidenum"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7D926-4E17-4C0C-951A-F32F6D7379B2}" type="slidenum"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4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5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e7747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F4E77-AA7A-4FF5-835F-F99E1FE408FA}" type="slidenum"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6288-D293-4586-97EA-4B275C220E14}" type="slidenum"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7 Rectángulo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7 Rectángulo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8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f67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9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fff39d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45e70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7598d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b32c1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f5cd2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e0ce4d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BD7A-E8B4-4B73-BAF5-9698EB775B89}" type="slidenum">
              <a:rPr b="0" lang="es-ES" sz="1200" spc="-1" strike="noStrike">
                <a:solidFill>
                  <a:srgbClr val="e0ce4d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45e70"/>
                </a:solidFill>
                <a:latin typeface="Gill Sans MT"/>
              </a:rPr>
              <a:t>El mundo en nuestras manos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76000" y="1849320"/>
            <a:ext cx="7343640" cy="424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600" spc="-1" strike="noStrike">
              <a:solidFill>
                <a:srgbClr val="2c3340"/>
              </a:solidFill>
              <a:latin typeface="Gill Sans MT"/>
            </a:endParaRPr>
          </a:p>
        </p:txBody>
      </p:sp>
      <p:pic>
        <p:nvPicPr>
          <p:cNvPr id="320" name="Picture 2" descr=""/>
          <p:cNvPicPr/>
          <p:nvPr/>
        </p:nvPicPr>
        <p:blipFill>
          <a:blip r:embed="rId1"/>
          <a:stretch/>
        </p:blipFill>
        <p:spPr>
          <a:xfrm>
            <a:off x="2050920" y="2125800"/>
            <a:ext cx="633096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545e70"/>
                </a:solidFill>
                <a:latin typeface="Gill Sans MT"/>
              </a:rPr>
              <a:t>Usamos las manos para comunicarnos.  ¿Qué expresamos cuando …?</a:t>
            </a:r>
            <a:endParaRPr b="0" lang="en-US" sz="35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nos cogemos de la man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damos un apretón de man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levantamos la man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aplaudim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saludamo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nos frotamos las man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ill Sans MT"/>
              </a:rPr>
              <a:t>acariciamos, tocam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3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45e70"/>
                </a:solidFill>
                <a:latin typeface="Gill Sans MT"/>
              </a:rPr>
              <a:t>¿Cómo son tus manos?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delicad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bonit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suav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fuert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xpert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grandes / pequeñ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gil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rechonch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3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45e70"/>
                </a:solidFill>
                <a:latin typeface="Gill Sans MT"/>
              </a:rPr>
              <a:t>O quizás sean …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ásper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arrugad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torp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rugosa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545e70"/>
                </a:solidFill>
                <a:latin typeface="Gill Sans MT"/>
              </a:rPr>
              <a:t>En parejas, contesta a estas preguntas.</a:t>
            </a:r>
            <a:endParaRPr b="0" lang="en-US" sz="35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¿Qué crees que dicen las manos sobre la vida de una persona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¿Crees que las manos, como las apariencias, engaña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45e70"/>
                </a:solidFill>
                <a:latin typeface="Gill Sans MT"/>
              </a:rPr>
              <a:t>Obseva estas manos … 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pic>
        <p:nvPicPr>
          <p:cNvPr id="330" name="3 Marcador de contenido" descr=""/>
          <p:cNvPicPr/>
          <p:nvPr/>
        </p:nvPicPr>
        <p:blipFill>
          <a:blip r:embed="rId1"/>
          <a:stretch/>
        </p:blipFill>
        <p:spPr>
          <a:xfrm>
            <a:off x="2263680" y="1447920"/>
            <a:ext cx="5842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e70"/>
                </a:solidFill>
                <a:latin typeface="Gill Sans MT"/>
              </a:rPr>
              <a:t>Piensa unos minutos. ¿Cómo contestarías a estas preguntas?</a:t>
            </a:r>
            <a:endParaRPr b="0" lang="en-US" sz="28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as manos de la foto, ¿pertenecen a un hombre o a una mujer? ¿Por qué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enta imaginarte a esta persona. ¿Qué aspecto tiene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hora intenta imaginar su mundo. ¿Qué dicen sus manos sobre su estilo de vida, sus aficiones, su edad, …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¿Qué siente cuando se mira las mano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 algn="just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or último, ¿quién crees que hizo esta foto y por qué la hizo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952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545e70"/>
                </a:solidFill>
                <a:latin typeface="Gill Sans MT"/>
              </a:rPr>
              <a:t>Compara tus ideas con las de un compañero. ¿Interpretáis la foto de la misma forma?</a:t>
            </a:r>
            <a:br>
              <a:rPr sz="2800"/>
            </a:br>
            <a:endParaRPr b="0" lang="en-US" sz="2800" spc="-1" strike="noStrike">
              <a:solidFill>
                <a:srgbClr val="545e70"/>
              </a:solidFill>
              <a:latin typeface="Gill Sans MT"/>
            </a:endParaRPr>
          </a:p>
        </p:txBody>
      </p:sp>
      <p:pic>
        <p:nvPicPr>
          <p:cNvPr id="334" name="3 Marcador de contenido" descr="http://www.jasonyormark.com/wp-content/uploads/2009/09/conversation1.jpg"/>
          <p:cNvPicPr/>
          <p:nvPr/>
        </p:nvPicPr>
        <p:blipFill>
          <a:blip r:embed="rId1"/>
          <a:stretch/>
        </p:blipFill>
        <p:spPr>
          <a:xfrm>
            <a:off x="3438360" y="2624040"/>
            <a:ext cx="3492720" cy="34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45e70"/>
                </a:solidFill>
                <a:latin typeface="Gill Sans MT"/>
              </a:rPr>
              <a:t>Ejercicios de seguimiento.</a:t>
            </a:r>
            <a:endParaRPr b="0" lang="en-US" sz="4300" spc="-1" strike="noStrike">
              <a:solidFill>
                <a:srgbClr val="545e70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6532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Gill Sans MT"/>
              </a:rPr>
              <a:t>Reconstrucción facial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:  los alumnos dibujan la cara que creen que tiene esta persona. Exponer las fotos en clase para que todos las vean y comparen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Gill Sans MT"/>
              </a:rPr>
              <a:t>Haz una foto de tus manos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. Los alumnos traen fotos de sus propias manos.  Estas se exponen en clase y buscan entre ellas las manos de sus compañeros. También pueden ser fotos que representen una de las actividades de comunicación no verbal que se trabajaron al principio (saludando, acariciando, …)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 algn="just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Gill Sans MT"/>
              </a:rPr>
              <a:t>Escribir una historia </a:t>
            </a:r>
            <a:r>
              <a:rPr b="0" lang="en-US" sz="2700" spc="-1" strike="noStrike">
                <a:solidFill>
                  <a:srgbClr val="000000"/>
                </a:solidFill>
                <a:latin typeface="Gill Sans MT"/>
              </a:rPr>
              <a:t>que empiece: </a:t>
            </a:r>
            <a:r>
              <a:rPr b="0" i="1" lang="en-US" sz="2700" spc="-1" strike="noStrike">
                <a:solidFill>
                  <a:srgbClr val="000000"/>
                </a:solidFill>
                <a:latin typeface="Gill Sans MT"/>
              </a:rPr>
              <a:t>Cuando la ves por primera vez lo primero que notas son sus manos.</a:t>
            </a: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265320">
              <a:lnSpc>
                <a:spcPct val="7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30T18:37:32Z</dcterms:created>
  <dc:creator>ELE</dc:creator>
  <dc:description/>
  <dc:language>en-US</dc:language>
  <cp:lastModifiedBy>HSajons</cp:lastModifiedBy>
  <dcterms:modified xsi:type="dcterms:W3CDTF">2014-06-14T22:53:26Z</dcterms:modified>
  <cp:revision>24</cp:revision>
  <dc:subject/>
  <dc:title>Our world in our hands</dc:title>
</cp:coreProperties>
</file>