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817-AEDB-4884-AE11-1CBFC8D9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7E8-EC58-4059-92A0-CFB2BDDD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3BC-5AFA-45BC-8802-D365BEED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47C-4670-4D5A-B52C-217F89AF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B152-7BA0-490A-A0E4-4832444C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1D6D-781E-44C0-AF2F-09B0E05F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6E3D-640D-4C2A-8EF6-F19AA349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CE4C-1B46-4FA4-B88F-F77EFB22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49D1-871A-4ABC-8BD5-40C54864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58F3-BEF3-4010-8D75-601C918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6EBB-1B57-4BE8-A25E-F8BEDD07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90D-F881-4AF9-B438-F3E4BE95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1707-8353-4FC3-B137-3AB0510E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7E53-F145-4B07-B1D8-C1ABEC7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C5BD-E2CB-4BEC-A44D-2A44E87F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726F-5D83-4326-827D-47CB250E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BC04-0A62-4886-BF5B-C2BF0CE4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0C06-34CE-4A54-894F-521DF6B9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B5AC-87D9-45CE-8EA9-F82273A6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8EAD-7065-41C5-B845-BD9D4181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3571-18E0-49FF-92A3-2E9799E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96AF-83BC-44DE-B3D8-4D8C7BB0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2A3-489F-44FA-B121-27AE2238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F958-771E-4753-A347-F5097EE3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2342-35D3-46AF-8BC2-8FEC7E34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613B-5AEC-487E-B927-D3C99129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C0C2-2834-4844-99EE-73ADFB6F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9566-FE48-4399-A910-98922D88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8893-213D-40DC-9949-C3DEB99A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A2A0-BF7D-4058-BE8E-8C098C21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285E-FB4E-463F-8812-293D347D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C5BF-BC40-4B15-930D-ED406251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0726-6219-40D0-B656-8DACEFD4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222-A503-4CB5-9EAA-498A6EAC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5682-17A6-4F50-B156-4E8BC130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24D2-123C-41BF-93F9-8C892385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24EE-4084-406C-AC60-BE96CB52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1D57B-477B-4328-AE49-2C28A10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483E1-119C-4E27-AC77-2FC5A4F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CA95-3278-4103-9081-7FED4F8A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C320-1203-42A4-991D-175ACD4D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2905-36C5-4DE4-BD40-F93C51B9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CA33F-D4CD-40D8-803E-FE2B3522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975F0-819F-48EB-9F29-D6D11E2D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993-9A0F-43AC-BD02-6E3A50A8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AFE0-1961-4FDD-9F6A-3B9DB333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7A4D-716F-490C-88A5-C28ECA04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539BC-F057-4904-A91C-AE5AB7C8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9BDBF-1657-40E4-8CEE-2505455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EC20D-CE38-46E0-BE95-769539D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74EA2-0675-407F-9779-9EC2918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DCD85-3937-4AFC-8BBE-112E8437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B9B9-325E-4600-9E42-73B531C1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1734-FB55-4E11-B7ED-19F53AE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56179-3E1F-43C8-8F1E-4E9A8389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8FE-3B3D-4CA8-9888-E49B9E1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8E91C-AFC4-4071-884F-69FAE736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211A-FEE1-494F-AE8E-DE137EB1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AE252-CD52-4672-9D19-EC5E2725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B4F4-DD2D-456C-BF40-82E99227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63778-AA72-4E31-8A8B-6E19296F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927B4-193D-4CC4-8023-9A7B8F71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C1C5-681A-43FD-930B-217D2F37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CEEE9-6C29-437B-97BD-713D4A1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E5B2-D904-4325-A5DF-9390D48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B3C5D-9D0A-4F8D-81E7-CF793A9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404-2251-4477-9E48-FEC69787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DE92C-9ED1-4D64-813E-392D8241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B7DD-F08A-4C41-8B74-4CCA34C4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F4AC9-1D05-4CB7-B5EF-06D2F388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A64C-068E-461F-AD3B-4D4F81E9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67CFF-9A54-4ADA-9E16-CCCFA352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95DCF-390C-4487-B062-37CA5B20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C9C63-6683-40D9-BE53-A02EA2A3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1B58-2CA5-43CF-ABC2-B0BDAE05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7EB46-68DE-4E4C-9215-C80FB1C4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1C338-BBA8-4FDC-9DCE-42BDAB17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8C2-C6D3-421C-A673-83736FE1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6017C-B7DE-4FFB-8615-39B68694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53683-B337-43DD-AC4A-9571B901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8367-97CE-4109-ABE5-C2BCAB58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1623C-CF03-42BB-9DBD-993C3D2A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B897C-4924-4770-9ADE-2729AF42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154-B9D8-4604-A70F-A7CE254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F61F-3B55-433E-B4F0-57CD2645CA04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7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7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8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AD7B-91A8-4FFD-8C4D-15BC99FE0B76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9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7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7 Elipse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8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81AF-7427-44C5-BB59-24CAD12BD89F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6694-6814-4AB1-8AF5-7208C0CEC9E2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4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5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12ED-2FC4-4A3E-8B48-41DD6A77A2CA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E88A-32C6-4BB3-9F3B-11709C2CECB5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7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7 Rectángulo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8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9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0731-F159-41F9-8A73-4E3998A82806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El mundo en nuestras manos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76000" y="1849320"/>
            <a:ext cx="7343640" cy="42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2c3340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050920" y="2125800"/>
            <a:ext cx="63309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545e70"/>
                </a:solidFill>
                <a:latin typeface="Gill Sans MT"/>
              </a:rPr>
              <a:t>Usamos las manos para comunicarnos.  ¿Qué expresamos cuando …?</a:t>
            </a:r>
            <a:endParaRPr b="0" lang="en-US" sz="35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nos cogemos de la ma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amos un apretón de man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levantamos la ma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aplaudim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saludamo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nos frotamos las man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acariciamos, tocam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¿Cómo son tus manos?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delicad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bonit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ua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fuer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xpert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randes / pequeñ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gi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echonch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O quizás sean …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ásper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rrugad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orp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ugos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545e70"/>
                </a:solidFill>
                <a:latin typeface="Gill Sans MT"/>
              </a:rPr>
              <a:t>En parejas, contesta a estas preguntas.</a:t>
            </a:r>
            <a:endParaRPr b="0" lang="en-US" sz="35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¿Qué crees que dicen las manos sobre la vida de una person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¿Crees que las manos, como las apariencias, engaña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Obseva estas manos … 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30" name="3 Marcador de contenido" descr=""/>
          <p:cNvPicPr/>
          <p:nvPr/>
        </p:nvPicPr>
        <p:blipFill>
          <a:blip r:embed="rId1"/>
          <a:stretch/>
        </p:blipFill>
        <p:spPr>
          <a:xfrm>
            <a:off x="2263680" y="1447920"/>
            <a:ext cx="584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e70"/>
                </a:solidFill>
                <a:latin typeface="Gill Sans MT"/>
              </a:rPr>
              <a:t>Piensa unos minutos. ¿Cómo contestarías a estas preguntas?</a:t>
            </a:r>
            <a:endParaRPr b="0" lang="en-US" sz="28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s manos de la foto, ¿pertenecen a un hombre o a una mujer? ¿Por qué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nta imaginarte a esta persona. ¿Qué aspecto tien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hora intenta imaginar su mundo. ¿Qué dicen sus manos sobre su estilo de vida, sus aficiones, su edad, …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siente cuando se mira las mano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or último, ¿quién crees que hizo esta foto y por qué la hizo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545e70"/>
                </a:solidFill>
                <a:latin typeface="Gill Sans MT"/>
              </a:rPr>
              <a:t>Compara tus ideas con las de un compañero. ¿Interpretáis la foto de la misma forma?</a:t>
            </a:r>
            <a:br>
              <a:rPr sz="2800"/>
            </a:br>
            <a:endParaRPr b="0" lang="en-US" sz="28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34" name="3 Marcador de contenido" descr="http://www.jasonyormark.com/wp-content/uploads/2009/09/conversation1.jpg"/>
          <p:cNvPicPr/>
          <p:nvPr/>
        </p:nvPicPr>
        <p:blipFill>
          <a:blip r:embed="rId1"/>
          <a:stretch/>
        </p:blipFill>
        <p:spPr>
          <a:xfrm>
            <a:off x="3438360" y="2624040"/>
            <a:ext cx="34927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Ejercicios de seguimiento.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Reconstrucción facial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:  los alumnos dibujan la cara que creen que tiene esta persona. Exponer las fotos en clase para que todos las vean y comparen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Haz una foto de tus mano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. Los alumnos traen fotos de sus propias manos.  Estas se exponen en clase y buscan entre ellas las manos de sus compañeros. También pueden ser fotos que representen una de las actividades de comunicación no verbal que se trabajaron al principio (saludando, acariciando, …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Escribir una historia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que empiece: </a:t>
            </a:r>
            <a:r>
              <a:rPr b="0" i="1" lang="en-US" sz="2700" spc="-1" strike="noStrike">
                <a:solidFill>
                  <a:srgbClr val="000000"/>
                </a:solidFill>
                <a:latin typeface="Gill Sans MT"/>
              </a:rPr>
              <a:t>Cuando la ves por primera vez lo primero que notas son sus man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8:37:32Z</dcterms:created>
  <dc:creator>ELE</dc:creator>
  <dc:description/>
  <dc:language>en-US</dc:language>
  <cp:lastModifiedBy>HSajons</cp:lastModifiedBy>
  <dcterms:modified xsi:type="dcterms:W3CDTF">2014-06-14T22:53:26Z</dcterms:modified>
  <cp:revision>24</cp:revision>
  <dc:subject/>
  <dc:title>Our world in our hands</dc:title>
</cp:coreProperties>
</file>