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6CA-0522-47F0-A08B-C453F1367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2CCC-EC90-448C-AE00-1D0E4A4E26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ribe and comp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B01-7C02-4A0B-B831-6B66526A765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ribe and comp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9B5-797F-4393-8225-DE02D50DDC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D88-207B-4174-A731-50CE9BFD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958-0423-49F3-9222-4660A44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2C7-C211-4182-9DEA-05D6B1FA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DCA-1924-4257-A8FD-B2C2E8E5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D0B-2C6C-4C25-A155-463C6CCC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B34-1C98-48DB-85A0-14A2227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2A8A-CF24-4A43-9051-F16A575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7F56-D559-4F7A-949C-9BC0005B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2D8-4C0F-4891-9986-0E9F13A0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4BA-1679-4DAC-8042-99360F6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375-6410-4F62-A843-4DBEF48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510-D37F-48B4-A492-5CF7DDA8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3778-56EF-4728-B65A-AC77C98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A0B-27BF-4665-BAB8-B732620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865-EB61-43B3-A274-0EAA90B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65A2-EF5E-4B04-94F1-1C93BA31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524-8EA1-4CEA-A934-609D119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A822-8E34-4236-ACE7-FFB17D9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155C-E702-4188-8415-0C6E8D0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5A97-4176-4DC7-A38C-5BA20DF9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DF35-FF12-46FF-9780-51FCFA7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1C46-0DA6-4936-99AF-7F1E2A5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E6A-90AD-453B-BAF3-4D289CF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F3EC-E37E-47D8-AC11-86BA8295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09B9-7369-4822-967F-257B2FB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FB10-2B22-413D-9DE0-138E5F3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3930-6995-4796-AD00-5EB50D0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5FF0-1FE6-4AF0-BAE8-B90D4B7C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BCE7-442C-4D6C-BF27-0AD37933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17E5-1965-410A-A2E2-0E496F72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B94-21AD-4F38-848D-1051A179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CD7-9B90-4450-9841-5E70CB4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9BF-CF96-4E34-90B9-A895248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FBC-96C0-4B6D-BD25-E395D59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518-BC81-4C43-8B48-1C6A92F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72D-922F-474F-9798-2D6A1D5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23B-66CC-4A8C-BA98-9684C00B01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FF2-7DC3-4168-826D-A431D6AF5F2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1AFD-A836-455C-988E-A4383B30BB2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. Street market or department store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4 Marcador de contenido" descr="IMG_20141102_105132.jpg"/>
          <p:cNvPicPr/>
          <p:nvPr/>
        </p:nvPicPr>
        <p:blipFill>
          <a:blip r:embed="rId2"/>
          <a:stretch/>
        </p:blipFill>
        <p:spPr>
          <a:xfrm>
            <a:off x="357120" y="2143080"/>
            <a:ext cx="4167360" cy="312588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Chanel_Magasin_Paris_BeleÌn.JPG"/>
          <p:cNvPicPr/>
          <p:nvPr/>
        </p:nvPicPr>
        <p:blipFill>
          <a:blip r:embed="rId3"/>
          <a:stretch/>
        </p:blipFill>
        <p:spPr>
          <a:xfrm>
            <a:off x="4714920" y="2214720"/>
            <a:ext cx="4081320" cy="30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5 Marcador de contenido" descr="Deparment store1.jpg"/>
          <p:cNvPicPr/>
          <p:nvPr/>
        </p:nvPicPr>
        <p:blipFill>
          <a:blip r:embed="rId2"/>
          <a:stretch/>
        </p:blipFill>
        <p:spPr>
          <a:xfrm>
            <a:off x="3286080" y="285840"/>
            <a:ext cx="5857920" cy="4395600"/>
          </a:xfrm>
          <a:prstGeom prst="rect">
            <a:avLst/>
          </a:prstGeom>
          <a:ln w="0">
            <a:noFill/>
          </a:ln>
        </p:spPr>
      </p:pic>
      <p:pic>
        <p:nvPicPr>
          <p:cNvPr id="135" name="6 Imagen" descr="GaleriesLafayette_Paris_Belen.jpg"/>
          <p:cNvPicPr/>
          <p:nvPr/>
        </p:nvPicPr>
        <p:blipFill>
          <a:blip r:embed="rId3"/>
          <a:stretch/>
        </p:blipFill>
        <p:spPr>
          <a:xfrm>
            <a:off x="0" y="380196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et Markets vs Department Sto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s and C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 pri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displ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cho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dividual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ing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tt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 to we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pping 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customer/sel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over health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loc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s offered (i.e. free home delivery, phone ord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2. Welcome to my greengrocer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6 Imagen" descr=""/>
          <p:cNvPicPr/>
          <p:nvPr/>
        </p:nvPicPr>
        <p:blipFill>
          <a:blip r:embed="rId2"/>
          <a:stretch/>
        </p:blipFill>
        <p:spPr>
          <a:xfrm>
            <a:off x="7236000" y="1413000"/>
            <a:ext cx="1528560" cy="2016000"/>
          </a:xfrm>
          <a:prstGeom prst="rect">
            <a:avLst/>
          </a:prstGeom>
          <a:ln w="0">
            <a:noFill/>
          </a:ln>
        </p:spPr>
      </p:pic>
      <p:pic>
        <p:nvPicPr>
          <p:cNvPr id="140" name="7 Imagen" descr=""/>
          <p:cNvPicPr/>
          <p:nvPr/>
        </p:nvPicPr>
        <p:blipFill>
          <a:blip r:embed="rId3"/>
          <a:stretch/>
        </p:blipFill>
        <p:spPr>
          <a:xfrm>
            <a:off x="4662360" y="358308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141" name="9 Marcador de contenido" descr=""/>
          <p:cNvPicPr/>
          <p:nvPr/>
        </p:nvPicPr>
        <p:blipFill>
          <a:blip r:embed="rId4"/>
          <a:stretch/>
        </p:blipFill>
        <p:spPr>
          <a:xfrm>
            <a:off x="395280" y="3760920"/>
            <a:ext cx="4046400" cy="2697120"/>
          </a:xfrm>
          <a:prstGeom prst="rect">
            <a:avLst/>
          </a:prstGeom>
          <a:ln w="0">
            <a:noFill/>
          </a:ln>
        </p:spPr>
      </p:pic>
      <p:pic>
        <p:nvPicPr>
          <p:cNvPr id="142" name="10 Imagen" descr=""/>
          <p:cNvPicPr/>
          <p:nvPr/>
        </p:nvPicPr>
        <p:blipFill>
          <a:blip r:embed="rId5"/>
          <a:stretch/>
        </p:blipFill>
        <p:spPr>
          <a:xfrm>
            <a:off x="4500720" y="1484280"/>
            <a:ext cx="2458800" cy="1644840"/>
          </a:xfrm>
          <a:prstGeom prst="rect">
            <a:avLst/>
          </a:prstGeom>
          <a:ln w="0">
            <a:noFill/>
          </a:ln>
        </p:spPr>
      </p:pic>
      <p:pic>
        <p:nvPicPr>
          <p:cNvPr id="143" name="11 Imagen" descr="C:\Users\familia\Desktop\guatemala_1.jpg"/>
          <p:cNvPicPr/>
          <p:nvPr/>
        </p:nvPicPr>
        <p:blipFill>
          <a:blip r:embed="rId6"/>
          <a:stretch/>
        </p:blipFill>
        <p:spPr>
          <a:xfrm>
            <a:off x="611280" y="1247760"/>
            <a:ext cx="322884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ribe the photos and then comp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of products you can find in the different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grown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sonal o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of customers who buy in these 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llers’ life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5 Imagen" descr="IMG_20141102_105030.jpg"/>
          <p:cNvPicPr/>
          <p:nvPr/>
        </p:nvPicPr>
        <p:blipFill>
          <a:blip r:embed="rId2"/>
          <a:stretch/>
        </p:blipFill>
        <p:spPr>
          <a:xfrm>
            <a:off x="900000" y="969840"/>
            <a:ext cx="3311640" cy="2886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3. How I met……/ How I found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7 Marcador de contenido" descr="MarcheÌAuxArts_Paris_Belen.JPG"/>
          <p:cNvPicPr/>
          <p:nvPr/>
        </p:nvPicPr>
        <p:blipFill>
          <a:blip r:embed="rId3"/>
          <a:stretch/>
        </p:blipFill>
        <p:spPr>
          <a:xfrm>
            <a:off x="6012000" y="1341360"/>
            <a:ext cx="231444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8 Imagen" descr="street market.JPG"/>
          <p:cNvPicPr/>
          <p:nvPr/>
        </p:nvPicPr>
        <p:blipFill>
          <a:blip r:embed="rId4"/>
          <a:stretch/>
        </p:blipFill>
        <p:spPr>
          <a:xfrm>
            <a:off x="5796000" y="3789360"/>
            <a:ext cx="286704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Bego\Pictures\MArkets\MArkets2\IMG_20141102_102855.jpg"/>
          <p:cNvPicPr/>
          <p:nvPr/>
        </p:nvPicPr>
        <p:blipFill>
          <a:blip r:embed="rId5"/>
          <a:stretch/>
        </p:blipFill>
        <p:spPr>
          <a:xfrm>
            <a:off x="755640" y="3429000"/>
            <a:ext cx="42242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Describe your favourite shop or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it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often do you go the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kind of products do you buy the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you lik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21:26:42Z</dcterms:created>
  <dc:creator>Eva</dc:creator>
  <dc:description/>
  <dc:language>en-US</dc:language>
  <cp:lastModifiedBy>HSajons</cp:lastModifiedBy>
  <dcterms:modified xsi:type="dcterms:W3CDTF">2015-05-27T15:29:58Z</dcterms:modified>
  <cp:revision>42</cp:revision>
  <dc:subject/>
  <dc:title>Diapositiva 1</dc:title>
</cp:coreProperties>
</file>