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6F674-FD3D-4E6F-9FC5-BDD7EB0792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EA4A-7F61-4A83-893A-E1047566B27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Describe and comp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546F-BDA7-4157-896A-4DA9902B3F4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Describe and compar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73006-AED4-4387-B2E8-547F7CB2A9B0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0539-74C3-4E87-9EC3-273BF283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516B-A698-4F42-883D-7EC5792DF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582C-5C2D-4B03-AFBC-CCC85E5A1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BF76-ECBC-41D1-904C-B823D0E76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F2C7-F51E-40D9-9536-D495143A6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FD8E-5AD8-4171-A7BE-DFEEBAFF5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802C-43E7-4FC4-AF62-205D49B3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8D9C-E397-4346-B054-2583CEB0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3D23C-03B9-4011-88A6-B829D2FE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0B4D-36AC-46AC-A5C2-CB3A41998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BC6BE-9146-4AD3-8B6B-06BEEDAD4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6CD5-BF4B-44A5-B9FC-144F32C9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84ECB-5F3C-4763-B6A6-0A75963A2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AAFF2-50A0-4237-8C61-E6D768E1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5A3DD-B6FC-40D0-8F61-3918EE70E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9C77A-FCA1-4F30-A43A-39BFF5AB0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60F4-1454-4961-9AE5-762456B3F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314AE-19C0-48A3-95E7-722A52DC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3E648-B021-4C0E-9D44-A29ECC953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C1492-8CA2-4DF4-B55F-D01C26C1C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D3A9E-1505-4332-93DA-3D39B2D78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3DDC1-0750-4A20-AB85-120D25359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D6C2-EDBC-4D3C-A40C-8138CA20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7C61E-3ED8-4F7C-B67B-280F836C0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33499-F3A6-4A8F-9026-9BC648B8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343DB-B0B5-40E3-B08C-3263CB12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2F402-54CB-4C71-A8AA-E5F2910BE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A671F-6C94-4F14-AAB3-162D491DD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69FE2-B0E5-4356-ABF3-11AD153B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DA808-EC52-41DC-A86A-8C3C6EE5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811D-71DD-4DD9-95F9-F35E1AB13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D52E-D3EB-45D0-AA28-BC865EDDF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B4D0-056D-4AA5-B9D8-F685F143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50E8-A185-4955-B388-790C1BF2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567B-E0CC-472E-B858-5748C90F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3D67-3C99-4015-8FDD-69E52AC2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775F4-E37A-4AFB-81F7-EA5DFE91AB1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2D48-4682-4284-98B2-F219B92CA01E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D451F-B7DA-411B-A669-7E23036F7562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1. Street market or department store deb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4 Marcador de contenido" descr="IMG_20141102_105132.jpg"/>
          <p:cNvPicPr/>
          <p:nvPr/>
        </p:nvPicPr>
        <p:blipFill>
          <a:blip r:embed="rId2"/>
          <a:stretch/>
        </p:blipFill>
        <p:spPr>
          <a:xfrm>
            <a:off x="357120" y="2143080"/>
            <a:ext cx="4167360" cy="3125880"/>
          </a:xfrm>
          <a:prstGeom prst="rect">
            <a:avLst/>
          </a:prstGeom>
          <a:ln w="0">
            <a:noFill/>
          </a:ln>
        </p:spPr>
      </p:pic>
      <p:pic>
        <p:nvPicPr>
          <p:cNvPr id="132" name="5 Imagen" descr="Chanel_Magasin_Paris_BeleÌn.JPG"/>
          <p:cNvPicPr/>
          <p:nvPr/>
        </p:nvPicPr>
        <p:blipFill>
          <a:blip r:embed="rId3"/>
          <a:stretch/>
        </p:blipFill>
        <p:spPr>
          <a:xfrm>
            <a:off x="4714920" y="2214720"/>
            <a:ext cx="4081320" cy="3062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5 Marcador de contenido" descr="Deparment store1.jpg"/>
          <p:cNvPicPr/>
          <p:nvPr/>
        </p:nvPicPr>
        <p:blipFill>
          <a:blip r:embed="rId2"/>
          <a:stretch/>
        </p:blipFill>
        <p:spPr>
          <a:xfrm>
            <a:off x="3286080" y="285840"/>
            <a:ext cx="5857920" cy="4395600"/>
          </a:xfrm>
          <a:prstGeom prst="rect">
            <a:avLst/>
          </a:prstGeom>
          <a:ln w="0">
            <a:noFill/>
          </a:ln>
        </p:spPr>
      </p:pic>
      <p:pic>
        <p:nvPicPr>
          <p:cNvPr id="135" name="6 Imagen" descr="GaleriesLafayette_Paris_Belen.jpg"/>
          <p:cNvPicPr/>
          <p:nvPr/>
        </p:nvPicPr>
        <p:blipFill>
          <a:blip r:embed="rId3"/>
          <a:stretch/>
        </p:blipFill>
        <p:spPr>
          <a:xfrm>
            <a:off x="0" y="3801960"/>
            <a:ext cx="4071960" cy="305604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reet Markets vs Department Stor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s and C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etitive pric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 qual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ckaging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t display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de choi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alibri"/>
              </a:rPr>
              <a:t>individual atten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pening tim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utt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bject to weath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hopping conveni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ink customer/seller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trol over health regul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od for local econom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rvices offered (i.e. free home delivery, phone order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2. Welcome to my greengrocer’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6 Imagen" descr=""/>
          <p:cNvPicPr/>
          <p:nvPr/>
        </p:nvPicPr>
        <p:blipFill>
          <a:blip r:embed="rId2"/>
          <a:stretch/>
        </p:blipFill>
        <p:spPr>
          <a:xfrm>
            <a:off x="7236000" y="1413000"/>
            <a:ext cx="1528560" cy="2016000"/>
          </a:xfrm>
          <a:prstGeom prst="rect">
            <a:avLst/>
          </a:prstGeom>
          <a:ln w="0">
            <a:noFill/>
          </a:ln>
        </p:spPr>
      </p:pic>
      <p:pic>
        <p:nvPicPr>
          <p:cNvPr id="140" name="7 Imagen" descr=""/>
          <p:cNvPicPr/>
          <p:nvPr/>
        </p:nvPicPr>
        <p:blipFill>
          <a:blip r:embed="rId3"/>
          <a:stretch/>
        </p:blipFill>
        <p:spPr>
          <a:xfrm>
            <a:off x="4662360" y="3583080"/>
            <a:ext cx="4070520" cy="3052800"/>
          </a:xfrm>
          <a:prstGeom prst="rect">
            <a:avLst/>
          </a:prstGeom>
          <a:ln w="0">
            <a:noFill/>
          </a:ln>
        </p:spPr>
      </p:pic>
      <p:pic>
        <p:nvPicPr>
          <p:cNvPr id="141" name="9 Marcador de contenido" descr=""/>
          <p:cNvPicPr/>
          <p:nvPr/>
        </p:nvPicPr>
        <p:blipFill>
          <a:blip r:embed="rId4"/>
          <a:stretch/>
        </p:blipFill>
        <p:spPr>
          <a:xfrm>
            <a:off x="395280" y="3760920"/>
            <a:ext cx="4046400" cy="2697120"/>
          </a:xfrm>
          <a:prstGeom prst="rect">
            <a:avLst/>
          </a:prstGeom>
          <a:ln w="0">
            <a:noFill/>
          </a:ln>
        </p:spPr>
      </p:pic>
      <p:pic>
        <p:nvPicPr>
          <p:cNvPr id="142" name="10 Imagen" descr=""/>
          <p:cNvPicPr/>
          <p:nvPr/>
        </p:nvPicPr>
        <p:blipFill>
          <a:blip r:embed="rId5"/>
          <a:stretch/>
        </p:blipFill>
        <p:spPr>
          <a:xfrm>
            <a:off x="4500720" y="1484280"/>
            <a:ext cx="2458800" cy="1644840"/>
          </a:xfrm>
          <a:prstGeom prst="rect">
            <a:avLst/>
          </a:prstGeom>
          <a:ln w="0">
            <a:noFill/>
          </a:ln>
        </p:spPr>
      </p:pic>
      <p:pic>
        <p:nvPicPr>
          <p:cNvPr id="143" name="11 Imagen" descr="C:\Users\familia\Desktop\guatemala_1.jpg"/>
          <p:cNvPicPr/>
          <p:nvPr/>
        </p:nvPicPr>
        <p:blipFill>
          <a:blip r:embed="rId6"/>
          <a:stretch/>
        </p:blipFill>
        <p:spPr>
          <a:xfrm>
            <a:off x="611280" y="1247760"/>
            <a:ext cx="3228840" cy="2162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scribe the photos and then comp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ype of products you can find in the different mark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ar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cally grown produ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sonal o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type of customers who buy in these pla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sellers’ life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5 Imagen" descr="IMG_20141102_105030.jpg"/>
          <p:cNvPicPr/>
          <p:nvPr/>
        </p:nvPicPr>
        <p:blipFill>
          <a:blip r:embed="rId2"/>
          <a:stretch/>
        </p:blipFill>
        <p:spPr>
          <a:xfrm>
            <a:off x="900000" y="969840"/>
            <a:ext cx="3311640" cy="28861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3. How I met……/ How I found…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7 Marcador de contenido" descr="MarcheÌAuxArts_Paris_Belen.JPG"/>
          <p:cNvPicPr/>
          <p:nvPr/>
        </p:nvPicPr>
        <p:blipFill>
          <a:blip r:embed="rId3"/>
          <a:stretch/>
        </p:blipFill>
        <p:spPr>
          <a:xfrm>
            <a:off x="6012000" y="1341360"/>
            <a:ext cx="2314440" cy="1728720"/>
          </a:xfrm>
          <a:prstGeom prst="rect">
            <a:avLst/>
          </a:prstGeom>
          <a:ln w="0">
            <a:noFill/>
          </a:ln>
        </p:spPr>
      </p:pic>
      <p:pic>
        <p:nvPicPr>
          <p:cNvPr id="149" name="8 Imagen" descr="street market.JPG"/>
          <p:cNvPicPr/>
          <p:nvPr/>
        </p:nvPicPr>
        <p:blipFill>
          <a:blip r:embed="rId4"/>
          <a:stretch/>
        </p:blipFill>
        <p:spPr>
          <a:xfrm>
            <a:off x="5796000" y="3789360"/>
            <a:ext cx="2867040" cy="2143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C:\Users\Bego\Pictures\MArkets\MArkets2\IMG_20141102_102855.jpg"/>
          <p:cNvPicPr/>
          <p:nvPr/>
        </p:nvPicPr>
        <p:blipFill>
          <a:blip r:embed="rId5"/>
          <a:stretch/>
        </p:blipFill>
        <p:spPr>
          <a:xfrm>
            <a:off x="755640" y="3429000"/>
            <a:ext cx="4224240" cy="3168720"/>
          </a:xfrm>
          <a:prstGeom prst="rect">
            <a:avLst/>
          </a:prstGeom>
          <a:ln w="0">
            <a:noFill/>
          </a:ln>
        </p:spPr>
      </p:pic>
    </p:spTree>
  </p:cSld>
  <p:transition spd="slow">
    <p:push dir="l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4. Describe your favourite shop or mark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ere is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is it lik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 often do you go ther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at kind of products do you buy ther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hy do you like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3T21:26:42Z</dcterms:created>
  <dc:creator>Eva</dc:creator>
  <dc:description/>
  <dc:language>en-US</dc:language>
  <cp:lastModifiedBy>HSajons</cp:lastModifiedBy>
  <dcterms:modified xsi:type="dcterms:W3CDTF">2015-05-27T15:29:58Z</dcterms:modified>
  <cp:revision>42</cp:revision>
  <dc:subject/>
  <dc:title>Diapositiva 1</dc:title>
</cp:coreProperties>
</file>