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gif" ContentType="image/gif"/>
  <Override PartName="/ppt/media/image15.gif" ContentType="image/gif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EDD1-9A91-4FCF-9F8A-1A714561A6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7B01-23BC-44C6-B2C3-02C6C19E89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EB72-DE21-44FF-8E43-78F6EF599F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BB7E-40E6-475D-B69D-3843337A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EEE-E911-42A0-B3B5-06022B82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B96-103F-47EB-B989-FE3197F1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5424-0830-4EBE-A93B-7294D761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3C28-2898-470D-97B5-800BA05F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E073-FE69-44B1-BC46-62EFE8D3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C673-959B-47F5-872D-BA3FAA5A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F84A-08BE-47BD-808B-67F93D22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5448-0FD5-4EAA-9141-3A603A71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6A2D-C2DC-4D8E-A069-DBF28233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F289-1EB5-4301-9FC5-C719ECFC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B99A-E307-4556-9D4F-ADFBE2CA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BB0C-F2E7-4CC9-8BF6-44CAC2FE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F24C-8E46-4B10-B792-D6616D82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7852-10C2-4DA3-8036-4AAA4954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525A-4005-41B3-9FBE-33C37BF9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7A9C-558F-47BD-9288-58ADC96D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04E-5F95-49D6-8889-24E2CDB2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329-9AFE-45B4-9928-BCDD1C0C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B2BD-7334-4CD8-825A-CAE354F1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277-938E-4BDE-A4E7-B27F32A7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2CAC-E324-4B7D-823E-101F56FB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B121-2394-4C7F-B6B9-E649BA1A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F41-536B-486F-8415-AA467C2A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98AF-CF0F-4975-85EF-57FAE72B1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5413-C966-4485-A7F4-9DCC88396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Entrez%20chez%20moi.ppsx" TargetMode="External"/><Relationship Id="rId2" Type="http://schemas.openxmlformats.org/officeDocument/2006/relationships/hyperlink" Target="https://www.dropbox.com/s/u4m96n27kp7k8xx/Entrez%20chez%20moi5.ppsx" TargetMode="External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Picture tell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The mysterious ph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7139160" y="208080"/>
            <a:ext cx="1670040" cy="1047600"/>
          </a:xfrm>
          <a:prstGeom prst="rect">
            <a:avLst/>
          </a:prstGeom>
          <a:ln w="0">
            <a:noFill/>
          </a:ln>
        </p:spPr>
      </p:pic>
      <p:pic>
        <p:nvPicPr>
          <p:cNvPr id="92" name="officeArt object" descr=""/>
          <p:cNvPicPr/>
          <p:nvPr/>
        </p:nvPicPr>
        <p:blipFill>
          <a:blip r:embed="rId2"/>
          <a:stretch/>
        </p:blipFill>
        <p:spPr>
          <a:xfrm>
            <a:off x="317520" y="255600"/>
            <a:ext cx="1450800" cy="130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One day there is a knock on your d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71840" y="4214880"/>
            <a:ext cx="5464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Who’s the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Put pen to paper and tell me your st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4 Imagen" descr="sonnette.jpg"/>
          <p:cNvPicPr/>
          <p:nvPr/>
        </p:nvPicPr>
        <p:blipFill>
          <a:blip r:embed="rId1"/>
          <a:stretch/>
        </p:blipFill>
        <p:spPr>
          <a:xfrm>
            <a:off x="539640" y="549360"/>
            <a:ext cx="2508480" cy="1882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3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222222"/>
                </a:solidFill>
                <a:latin typeface="MV Boli"/>
                <a:ea typeface="Calibri"/>
              </a:rPr>
              <a:t>It’s a landscape </a:t>
            </a:r>
            <a:br>
              <a:rPr sz="4400"/>
            </a:b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3 Marcador de contenido" descr="Silvijas Kupri.jpg"/>
          <p:cNvPicPr/>
          <p:nvPr/>
        </p:nvPicPr>
        <p:blipFill>
          <a:blip r:embed="rId1"/>
          <a:stretch/>
        </p:blipFill>
        <p:spPr>
          <a:xfrm>
            <a:off x="1359000" y="3279600"/>
            <a:ext cx="6492600" cy="2992680"/>
          </a:xfrm>
          <a:prstGeom prst="rect">
            <a:avLst/>
          </a:prstGeom>
          <a:ln w="0">
            <a:noFill/>
          </a:ln>
        </p:spPr>
      </p:pic>
      <p:sp>
        <p:nvSpPr>
          <p:cNvPr id="95" name="4 CuadroTexto"/>
          <p:cNvSpPr/>
          <p:nvPr/>
        </p:nvSpPr>
        <p:spPr>
          <a:xfrm>
            <a:off x="611280" y="1700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22222"/>
                </a:solidFill>
                <a:latin typeface="MV Boli"/>
                <a:ea typeface="Calibri"/>
              </a:rPr>
              <a:t>Close your eyes for a few seconds…</a:t>
            </a:r>
            <a:r>
              <a:rPr b="0" lang="es-ES" sz="3200" spc="-1" strike="noStrike">
                <a:solidFill>
                  <a:srgbClr val="222222"/>
                </a:solidFill>
                <a:latin typeface="Comic Sans MS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22222"/>
                </a:solidFill>
                <a:latin typeface="MV Boli"/>
                <a:ea typeface="Calibri"/>
              </a:rPr>
              <a:t>What kind of landscape can you se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There are many colours in my pictu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What is it? What could it be?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MV Bol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4 Rectángulo"/>
          <p:cNvSpPr/>
          <p:nvPr/>
        </p:nvSpPr>
        <p:spPr>
          <a:xfrm>
            <a:off x="2286000" y="2413080"/>
            <a:ext cx="4572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V Boli"/>
                <a:ea typeface="MV Boli"/>
              </a:rPr>
              <a:t>I can se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V Boli"/>
                <a:ea typeface="MV Boli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V Boli"/>
                <a:ea typeface="MV Boli"/>
              </a:rPr>
              <a:t>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V Boli"/>
                <a:ea typeface="MV Boli"/>
              </a:rPr>
              <a:t>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V Boli"/>
                <a:ea typeface="MV Boli"/>
              </a:rPr>
              <a:t>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V Boli"/>
                <a:ea typeface="MV Boli"/>
              </a:rPr>
              <a:t>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57600" t="47534" r="37361" b="50312"/>
          <a:stretch/>
        </p:blipFill>
        <p:spPr>
          <a:xfrm>
            <a:off x="3059280" y="5373720"/>
            <a:ext cx="1684080" cy="72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rcRect l="49682" t="0" r="33046" b="91364"/>
          <a:stretch/>
        </p:blipFill>
        <p:spPr>
          <a:xfrm>
            <a:off x="1187280" y="3860640"/>
            <a:ext cx="1285920" cy="64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3"/>
          <a:srcRect l="56164" t="41052" r="30885" b="54633"/>
          <a:stretch/>
        </p:blipFill>
        <p:spPr>
          <a:xfrm>
            <a:off x="1114560" y="4941720"/>
            <a:ext cx="1728720" cy="57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4"/>
          <a:srcRect l="72718" t="26539" r="24277" b="70809"/>
          <a:stretch/>
        </p:blipFill>
        <p:spPr>
          <a:xfrm>
            <a:off x="2916360" y="3357720"/>
            <a:ext cx="1390680" cy="122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5"/>
          <a:srcRect l="32403" t="58337" r="46003" b="35187"/>
          <a:stretch/>
        </p:blipFill>
        <p:spPr>
          <a:xfrm>
            <a:off x="468360" y="2924280"/>
            <a:ext cx="1681200" cy="50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There are also different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</a:rPr>
              <a:t>	</a:t>
            </a:r>
            <a:r>
              <a:rPr b="0" lang="fr-FR" sz="3200" spc="-1" strike="noStrike">
                <a:solidFill>
                  <a:srgbClr val="222222"/>
                </a:solidFill>
                <a:latin typeface="MV Boli"/>
              </a:rPr>
              <a:t>	</a:t>
            </a:r>
            <a:r>
              <a:rPr b="0" lang="fr-FR" sz="3200" spc="-1" strike="noStrike">
                <a:solidFill>
                  <a:srgbClr val="222222"/>
                </a:solidFill>
                <a:latin typeface="MV Boli"/>
              </a:rPr>
              <a:t>   </a:t>
            </a: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	</a:t>
            </a: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	</a:t>
            </a: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	</a:t>
            </a: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	</a:t>
            </a: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	</a:t>
            </a: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    </a:t>
            </a: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	</a:t>
            </a: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	</a:t>
            </a: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     </a:t>
            </a: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s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   </a:t>
            </a: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What could it be?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MV Bol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5 Imagen" descr="pierres.jpg"/>
          <p:cNvPicPr/>
          <p:nvPr/>
        </p:nvPicPr>
        <p:blipFill>
          <a:blip r:embed="rId1"/>
          <a:stretch/>
        </p:blipFill>
        <p:spPr>
          <a:xfrm>
            <a:off x="4853160" y="1768320"/>
            <a:ext cx="1298520" cy="974880"/>
          </a:xfrm>
          <a:prstGeom prst="rect">
            <a:avLst/>
          </a:prstGeom>
          <a:ln w="0">
            <a:noFill/>
          </a:ln>
        </p:spPr>
      </p:pic>
      <p:pic>
        <p:nvPicPr>
          <p:cNvPr id="107" name="4 Imagen" descr="pierre.jpg"/>
          <p:cNvPicPr/>
          <p:nvPr/>
        </p:nvPicPr>
        <p:blipFill>
          <a:blip r:embed="rId2"/>
          <a:stretch/>
        </p:blipFill>
        <p:spPr>
          <a:xfrm>
            <a:off x="3348000" y="1484280"/>
            <a:ext cx="1430280" cy="1440000"/>
          </a:xfrm>
          <a:prstGeom prst="rect">
            <a:avLst/>
          </a:prstGeom>
          <a:ln w="0">
            <a:noFill/>
          </a:ln>
        </p:spPr>
      </p:pic>
      <p:pic>
        <p:nvPicPr>
          <p:cNvPr id="108" name="6 Imagen" descr="sable.jpg"/>
          <p:cNvPicPr/>
          <p:nvPr/>
        </p:nvPicPr>
        <p:blipFill>
          <a:blip r:embed="rId3"/>
          <a:stretch/>
        </p:blipFill>
        <p:spPr>
          <a:xfrm>
            <a:off x="3780000" y="3357720"/>
            <a:ext cx="1645920" cy="1244520"/>
          </a:xfrm>
          <a:prstGeom prst="rect">
            <a:avLst/>
          </a:prstGeom>
          <a:ln w="0">
            <a:noFill/>
          </a:ln>
        </p:spPr>
      </p:pic>
      <p:pic>
        <p:nvPicPr>
          <p:cNvPr id="109" name="7 Imagen" descr="de la terre.jpg"/>
          <p:cNvPicPr/>
          <p:nvPr/>
        </p:nvPicPr>
        <p:blipFill>
          <a:blip r:embed="rId4"/>
          <a:stretch/>
        </p:blipFill>
        <p:spPr>
          <a:xfrm>
            <a:off x="1763640" y="4508640"/>
            <a:ext cx="2016360" cy="1147680"/>
          </a:xfrm>
          <a:prstGeom prst="rect">
            <a:avLst/>
          </a:prstGeom>
          <a:ln w="0">
            <a:noFill/>
          </a:ln>
        </p:spPr>
      </p:pic>
      <p:pic>
        <p:nvPicPr>
          <p:cNvPr id="110" name="9 Imagen" descr="bois.jpg"/>
          <p:cNvPicPr/>
          <p:nvPr/>
        </p:nvPicPr>
        <p:blipFill>
          <a:blip r:embed="rId5"/>
          <a:stretch/>
        </p:blipFill>
        <p:spPr>
          <a:xfrm>
            <a:off x="6300720" y="2565360"/>
            <a:ext cx="2054160" cy="118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222222"/>
                </a:solidFill>
                <a:latin typeface="MV Boli"/>
                <a:ea typeface="Calibri"/>
              </a:rPr>
              <a:t>I think it’s summer time</a:t>
            </a:r>
            <a:br>
              <a:rPr sz="2400"/>
            </a:br>
            <a:r>
              <a:rPr b="0" lang="es-ES" sz="4400" spc="-1" strike="noStrike">
                <a:solidFill>
                  <a:srgbClr val="222222"/>
                </a:solidFill>
                <a:latin typeface="MV Boli"/>
                <a:ea typeface="Calibri"/>
              </a:rPr>
              <a:t>	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22222"/>
                </a:solidFill>
                <a:latin typeface="MV Boli"/>
                <a:ea typeface="Calibri"/>
              </a:rPr>
              <a:t>What makes me think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12 Imagen" descr="actividad Isabel Eva2.jpg"/>
          <p:cNvPicPr/>
          <p:nvPr/>
        </p:nvPicPr>
        <p:blipFill>
          <a:blip r:embed="rId1"/>
          <a:stretch/>
        </p:blipFill>
        <p:spPr>
          <a:xfrm>
            <a:off x="1476360" y="2276640"/>
            <a:ext cx="6804000" cy="382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There are two small buil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What else is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</a:rPr>
              <a:t>a/a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</a:rPr>
              <a:t>some/any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</a:rPr>
              <a:t>many/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</a:rPr>
              <a:t>a lot of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3 Imagen" descr="actividad Isabel Eva3.jpg"/>
          <p:cNvPicPr/>
          <p:nvPr/>
        </p:nvPicPr>
        <p:blipFill>
          <a:blip r:embed="rId1"/>
          <a:stretch/>
        </p:blipFill>
        <p:spPr>
          <a:xfrm>
            <a:off x="3995640" y="2852640"/>
            <a:ext cx="4737240" cy="26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3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Imagin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300816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There are two little ho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4 Imagen" descr="actividad Isabel Eva4.jpg"/>
          <p:cNvPicPr/>
          <p:nvPr/>
        </p:nvPicPr>
        <p:blipFill>
          <a:blip r:embed="rId1"/>
          <a:stretch/>
        </p:blipFill>
        <p:spPr>
          <a:xfrm>
            <a:off x="1395360" y="2414520"/>
            <a:ext cx="6962760" cy="39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Here is my ph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3 Marcador de contenido" descr="Silvijas Kupri.jpg"/>
          <p:cNvPicPr/>
          <p:nvPr/>
        </p:nvPicPr>
        <p:blipFill>
          <a:blip r:embed="rId1"/>
          <a:srcRect l="0" t="0" r="0" b="33191"/>
          <a:stretch/>
        </p:blipFill>
        <p:spPr>
          <a:xfrm>
            <a:off x="2484360" y="2924280"/>
            <a:ext cx="4525920" cy="3024000"/>
          </a:xfrm>
          <a:prstGeom prst="rect">
            <a:avLst/>
          </a:prstGeom>
          <a:ln w="0">
            <a:noFill/>
          </a:ln>
        </p:spPr>
      </p:pic>
      <p:sp>
        <p:nvSpPr>
          <p:cNvPr id="123" name="3 CuadroTexto"/>
          <p:cNvSpPr/>
          <p:nvPr/>
        </p:nvSpPr>
        <p:spPr>
          <a:xfrm>
            <a:off x="611280" y="119700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22222"/>
                </a:solidFill>
                <a:latin typeface="MV Boli"/>
                <a:ea typeface="Calibri"/>
              </a:rPr>
              <a:t>Does it look like the one you imagi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22222"/>
                </a:solidFill>
                <a:latin typeface="MV Boli"/>
                <a:ea typeface="Calibri"/>
              </a:rPr>
              <a:t>Are there any differen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And what about the roo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How many room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What are they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Take a photo of your favorite room and write a short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MV Boli"/>
              </a:rPr>
              <a:t>         </a:t>
            </a:r>
            <a:r>
              <a:rPr b="0" lang="fr-FR" sz="3200" spc="-1" strike="noStrike" u="sng">
                <a:solidFill>
                  <a:srgbClr val="009999"/>
                </a:solidFill>
                <a:uFillTx/>
                <a:latin typeface="MV Boli"/>
                <a:hlinkClick r:id="rId1"/>
              </a:rPr>
              <a:t>Please com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4 Imagen" descr="puertas-10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4005360"/>
            <a:ext cx="2328840" cy="2092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5" descr="x_lincamina"/>
          <p:cNvPicPr/>
          <p:nvPr/>
        </p:nvPicPr>
        <p:blipFill>
          <a:blip r:embed="rId4"/>
          <a:stretch/>
        </p:blipFill>
        <p:spPr>
          <a:xfrm>
            <a:off x="1908000" y="4941720"/>
            <a:ext cx="6204240" cy="11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3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3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0:02:54Z</dcterms:created>
  <dc:creator>Eva</dc:creator>
  <dc:description/>
  <dc:language>en-US</dc:language>
  <cp:lastModifiedBy>usuario</cp:lastModifiedBy>
  <dcterms:modified xsi:type="dcterms:W3CDTF">2014-05-14T14:31:20Z</dcterms:modified>
  <cp:revision>83</cp:revision>
  <dc:subject/>
  <dc:title>Picture telling</dc:title>
</cp:coreProperties>
</file>