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gif" ContentType="image/gif"/>
  <Override PartName="/ppt/media/image15.gif" ContentType="image/gif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D0C39-D426-4AA4-BA80-8E6CA42CAB2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A962-FA84-4101-8AA6-EC78CFEDAB01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15F5F-854C-4CD9-AAE3-845EFFCB95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B635-5982-4922-B937-2EFB180A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CA39-D6D8-4559-A630-DAC8DA81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9623-94C9-4EEA-A5D7-A53FEB91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193F-4CBC-45DF-97E6-417B9CFB4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E19C1-0370-4DEB-8DE8-3C19B5EA0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8FA2-B264-422D-8C61-04DAA0328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01C8-6863-4965-A5D3-26A1B32FF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58063-1A11-415E-A6CC-BFEB4998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D9DF-4E31-4EBA-BF9C-56DCE9DDD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6D46-D343-4A42-8901-01C4D0F7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BF792-6CA6-4CC8-AA04-6FD97188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968E7-548D-4345-B75D-8390F567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C15B8-E9A8-45CD-A998-52AA2EF9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91CF5-C79E-4AD5-BC79-44476F1B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B273-A0E1-4CA0-BCF7-C03D7F7F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128A-5752-450B-88E1-F1A77BBE5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48E0-9A0A-4B42-8074-0A93CFE6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EF38-6916-458F-B582-491C60679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B8C6-D460-457B-9C87-820F2520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E01B-C31A-4F4F-B475-04CDC862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67B-8F5F-49E5-A4EE-9DFDADFFB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8EFE-09A6-4465-BCFC-80CC9AB1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1A04-4FE1-4CA0-9F69-514C9E78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7B3F-7B96-44DF-8197-046F1AD5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1A8C-2A85-41CF-91E5-1E08EF3C3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A9FD-9423-4496-AD46-52EEA5F5B4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Entrez%20chez%20moi.ppsx" TargetMode="External"/><Relationship Id="rId2" Type="http://schemas.openxmlformats.org/officeDocument/2006/relationships/hyperlink" Target="https://www.dropbox.com/s/u4m96n27kp7k8xx/Entrez%20chez%20moi5.ppsx" TargetMode="External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Picture tell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The mysterious ph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7139160" y="208080"/>
            <a:ext cx="1670040" cy="1047600"/>
          </a:xfrm>
          <a:prstGeom prst="rect">
            <a:avLst/>
          </a:prstGeom>
          <a:ln w="0">
            <a:noFill/>
          </a:ln>
        </p:spPr>
      </p:pic>
      <p:pic>
        <p:nvPicPr>
          <p:cNvPr id="92" name="officeArt object" descr=""/>
          <p:cNvPicPr/>
          <p:nvPr/>
        </p:nvPicPr>
        <p:blipFill>
          <a:blip r:embed="rId2"/>
          <a:stretch/>
        </p:blipFill>
        <p:spPr>
          <a:xfrm>
            <a:off x="317520" y="255600"/>
            <a:ext cx="1450800" cy="1305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One day there is a knock on your d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571840" y="4214880"/>
            <a:ext cx="5464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o’s ther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Put pen to paper and tell me your stor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4 Imagen" descr="sonnette.jpg"/>
          <p:cNvPicPr/>
          <p:nvPr/>
        </p:nvPicPr>
        <p:blipFill>
          <a:blip r:embed="rId1"/>
          <a:stretch/>
        </p:blipFill>
        <p:spPr>
          <a:xfrm>
            <a:off x="539640" y="549360"/>
            <a:ext cx="2508480" cy="1882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4000"/>
                            </p:stCondLst>
                            <p:childTnLst>
                              <p:par>
                                <p:cTn id="3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222222"/>
                </a:solidFill>
                <a:latin typeface="MV Boli"/>
                <a:ea typeface="Calibri"/>
              </a:rPr>
              <a:t>It’s a landscape </a:t>
            </a:r>
            <a:br>
              <a:rPr sz="4400"/>
            </a:b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3 Marcador de contenido" descr="Silvijas Kupri.jpg"/>
          <p:cNvPicPr/>
          <p:nvPr/>
        </p:nvPicPr>
        <p:blipFill>
          <a:blip r:embed="rId1"/>
          <a:stretch/>
        </p:blipFill>
        <p:spPr>
          <a:xfrm>
            <a:off x="1359000" y="3279600"/>
            <a:ext cx="6492600" cy="2992680"/>
          </a:xfrm>
          <a:prstGeom prst="rect">
            <a:avLst/>
          </a:prstGeom>
          <a:ln w="0">
            <a:noFill/>
          </a:ln>
        </p:spPr>
      </p:pic>
      <p:sp>
        <p:nvSpPr>
          <p:cNvPr id="95" name="4 CuadroTexto"/>
          <p:cNvSpPr/>
          <p:nvPr/>
        </p:nvSpPr>
        <p:spPr>
          <a:xfrm>
            <a:off x="611280" y="170028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Close your eyes for a few seconds…</a:t>
            </a:r>
            <a:r>
              <a:rPr b="0" lang="es-ES" sz="3200" spc="-1" strike="noStrike">
                <a:solidFill>
                  <a:srgbClr val="222222"/>
                </a:solidFill>
                <a:latin typeface="Comic Sans MS"/>
                <a:ea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What kind of landscape can you se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many colours in my pictur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at is it? What could it b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4 Rectángulo"/>
          <p:cNvSpPr/>
          <p:nvPr/>
        </p:nvSpPr>
        <p:spPr>
          <a:xfrm>
            <a:off x="2286000" y="2413080"/>
            <a:ext cx="4572000" cy="36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I can see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b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g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wh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V Boli"/>
                <a:ea typeface="MV Boli"/>
              </a:rPr>
              <a:t>o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rcRect l="57600" t="47534" r="37361" b="50312"/>
          <a:stretch/>
        </p:blipFill>
        <p:spPr>
          <a:xfrm>
            <a:off x="3059280" y="5373720"/>
            <a:ext cx="1684080" cy="72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"/>
          <p:cNvPicPr/>
          <p:nvPr/>
        </p:nvPicPr>
        <p:blipFill>
          <a:blip r:embed="rId2"/>
          <a:srcRect l="49682" t="0" r="33046" b="91364"/>
          <a:stretch/>
        </p:blipFill>
        <p:spPr>
          <a:xfrm>
            <a:off x="1187280" y="3860640"/>
            <a:ext cx="1285920" cy="648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"/>
          <p:cNvPicPr/>
          <p:nvPr/>
        </p:nvPicPr>
        <p:blipFill>
          <a:blip r:embed="rId3"/>
          <a:srcRect l="56164" t="41052" r="30885" b="54633"/>
          <a:stretch/>
        </p:blipFill>
        <p:spPr>
          <a:xfrm>
            <a:off x="1114560" y="4941720"/>
            <a:ext cx="1728720" cy="5749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"/>
          <p:cNvPicPr/>
          <p:nvPr/>
        </p:nvPicPr>
        <p:blipFill>
          <a:blip r:embed="rId4"/>
          <a:srcRect l="72718" t="26539" r="24277" b="70809"/>
          <a:stretch/>
        </p:blipFill>
        <p:spPr>
          <a:xfrm>
            <a:off x="2916360" y="3357720"/>
            <a:ext cx="1390680" cy="1223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5"/>
          <a:srcRect l="32403" t="58337" r="46003" b="35187"/>
          <a:stretch/>
        </p:blipFill>
        <p:spPr>
          <a:xfrm>
            <a:off x="468360" y="2924280"/>
            <a:ext cx="1681200" cy="504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3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77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770" fill="hold"/>
                                        <p:tgtEl>
                                          <p:spTgt spid="10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77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7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770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5" dur="77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7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70" fill="hold"/>
                                        <p:tgtEl>
                                          <p:spTgt spid="9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7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4000"/>
                            </p:stCondLst>
                            <p:childTnLst>
                              <p:par>
                                <p:cTn id="7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3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also different mater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 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w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	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  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s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   </a:t>
            </a: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s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at could it be?</a:t>
            </a:r>
            <a:br>
              <a:rPr sz="3200"/>
            </a:b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5 Imagen" descr="pierres.jpg"/>
          <p:cNvPicPr/>
          <p:nvPr/>
        </p:nvPicPr>
        <p:blipFill>
          <a:blip r:embed="rId1"/>
          <a:stretch/>
        </p:blipFill>
        <p:spPr>
          <a:xfrm>
            <a:off x="4853160" y="1768320"/>
            <a:ext cx="1298520" cy="974880"/>
          </a:xfrm>
          <a:prstGeom prst="rect">
            <a:avLst/>
          </a:prstGeom>
          <a:ln w="0">
            <a:noFill/>
          </a:ln>
        </p:spPr>
      </p:pic>
      <p:pic>
        <p:nvPicPr>
          <p:cNvPr id="107" name="4 Imagen" descr="pierre.jpg"/>
          <p:cNvPicPr/>
          <p:nvPr/>
        </p:nvPicPr>
        <p:blipFill>
          <a:blip r:embed="rId2"/>
          <a:stretch/>
        </p:blipFill>
        <p:spPr>
          <a:xfrm>
            <a:off x="3348000" y="1484280"/>
            <a:ext cx="1430280" cy="1440000"/>
          </a:xfrm>
          <a:prstGeom prst="rect">
            <a:avLst/>
          </a:prstGeom>
          <a:ln w="0">
            <a:noFill/>
          </a:ln>
        </p:spPr>
      </p:pic>
      <p:pic>
        <p:nvPicPr>
          <p:cNvPr id="108" name="6 Imagen" descr="sable.jpg"/>
          <p:cNvPicPr/>
          <p:nvPr/>
        </p:nvPicPr>
        <p:blipFill>
          <a:blip r:embed="rId3"/>
          <a:stretch/>
        </p:blipFill>
        <p:spPr>
          <a:xfrm>
            <a:off x="3780000" y="3357720"/>
            <a:ext cx="1645920" cy="1244520"/>
          </a:xfrm>
          <a:prstGeom prst="rect">
            <a:avLst/>
          </a:prstGeom>
          <a:ln w="0">
            <a:noFill/>
          </a:ln>
        </p:spPr>
      </p:pic>
      <p:pic>
        <p:nvPicPr>
          <p:cNvPr id="109" name="7 Imagen" descr="de la terre.jpg"/>
          <p:cNvPicPr/>
          <p:nvPr/>
        </p:nvPicPr>
        <p:blipFill>
          <a:blip r:embed="rId4"/>
          <a:stretch/>
        </p:blipFill>
        <p:spPr>
          <a:xfrm>
            <a:off x="1763640" y="4508640"/>
            <a:ext cx="2016360" cy="1147680"/>
          </a:xfrm>
          <a:prstGeom prst="rect">
            <a:avLst/>
          </a:prstGeom>
          <a:ln w="0">
            <a:noFill/>
          </a:ln>
        </p:spPr>
      </p:pic>
      <p:pic>
        <p:nvPicPr>
          <p:cNvPr id="110" name="9 Imagen" descr="bois.jpg"/>
          <p:cNvPicPr/>
          <p:nvPr/>
        </p:nvPicPr>
        <p:blipFill>
          <a:blip r:embed="rId5"/>
          <a:stretch/>
        </p:blipFill>
        <p:spPr>
          <a:xfrm>
            <a:off x="6300720" y="2565360"/>
            <a:ext cx="2054160" cy="118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3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0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222222"/>
                </a:solidFill>
                <a:latin typeface="MV Boli"/>
                <a:ea typeface="Calibri"/>
              </a:rPr>
              <a:t>I think it’s summer time</a:t>
            </a:r>
            <a:br>
              <a:rPr sz="2400"/>
            </a:br>
            <a:r>
              <a:rPr b="0" lang="es-ES" sz="4400" spc="-1" strike="noStrike">
                <a:solidFill>
                  <a:srgbClr val="222222"/>
                </a:solidFill>
                <a:latin typeface="MV Boli"/>
                <a:ea typeface="Calibri"/>
              </a:rPr>
              <a:t>	</a:t>
            </a:r>
            <a:br>
              <a:rPr sz="2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What makes me think th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12 Imagen" descr="actividad Isabel Eva2.jpg"/>
          <p:cNvPicPr/>
          <p:nvPr/>
        </p:nvPicPr>
        <p:blipFill>
          <a:blip r:embed="rId1"/>
          <a:stretch/>
        </p:blipFill>
        <p:spPr>
          <a:xfrm>
            <a:off x="1476360" y="2276640"/>
            <a:ext cx="6804000" cy="38271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3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0"/>
                            </p:stCondLst>
                            <p:childTnLst>
                              <p:par>
                                <p:cTn id="1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18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two small buil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</a:rPr>
              <a:t>What else is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a/an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some/any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many/mu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222222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22222"/>
                </a:solidFill>
                <a:latin typeface="MV Boli"/>
              </a:rPr>
              <a:t>a lot of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3 Imagen" descr="actividad Isabel Eva3.jpg"/>
          <p:cNvPicPr/>
          <p:nvPr/>
        </p:nvPicPr>
        <p:blipFill>
          <a:blip r:embed="rId1"/>
          <a:stretch/>
        </p:blipFill>
        <p:spPr>
          <a:xfrm>
            <a:off x="3995640" y="2852640"/>
            <a:ext cx="4737240" cy="2665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3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3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3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Imagine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300816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There are two little hou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4 Imagen" descr="actividad Isabel Eva4.jpg"/>
          <p:cNvPicPr/>
          <p:nvPr/>
        </p:nvPicPr>
        <p:blipFill>
          <a:blip r:embed="rId1"/>
          <a:stretch/>
        </p:blipFill>
        <p:spPr>
          <a:xfrm>
            <a:off x="1395360" y="2414520"/>
            <a:ext cx="6962760" cy="3919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3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Here is my ph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3 Marcador de contenido" descr="Silvijas Kupri.jpg"/>
          <p:cNvPicPr/>
          <p:nvPr/>
        </p:nvPicPr>
        <p:blipFill>
          <a:blip r:embed="rId1"/>
          <a:srcRect l="0" t="0" r="0" b="33191"/>
          <a:stretch/>
        </p:blipFill>
        <p:spPr>
          <a:xfrm>
            <a:off x="2484360" y="2924280"/>
            <a:ext cx="4525920" cy="3024000"/>
          </a:xfrm>
          <a:prstGeom prst="rect">
            <a:avLst/>
          </a:prstGeom>
          <a:ln w="0">
            <a:noFill/>
          </a:ln>
        </p:spPr>
      </p:pic>
      <p:sp>
        <p:nvSpPr>
          <p:cNvPr id="123" name="3 CuadroTexto"/>
          <p:cNvSpPr/>
          <p:nvPr/>
        </p:nvSpPr>
        <p:spPr>
          <a:xfrm>
            <a:off x="611280" y="119700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Does it look like the one you imagi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2222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22222"/>
                </a:solidFill>
                <a:latin typeface="MV Boli"/>
                <a:ea typeface="Calibri"/>
              </a:rPr>
              <a:t>Are there any differenc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5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143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MV Boli"/>
              </a:rPr>
              <a:t>And what about the room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How many room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What are they li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MV Bol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MV Boli"/>
              </a:rPr>
              <a:t>Take a photo of your favorite room and write a short descri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MV Boli"/>
              </a:rPr>
              <a:t>         </a:t>
            </a:r>
            <a:r>
              <a:rPr b="0" lang="fr-FR" sz="3200" spc="-1" strike="noStrike" u="sng">
                <a:solidFill>
                  <a:srgbClr val="009999"/>
                </a:solidFill>
                <a:uFillTx/>
                <a:latin typeface="MV Boli"/>
                <a:hlinkClick r:id="rId1"/>
              </a:rPr>
              <a:t>Please come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4 Imagen" descr="puertas-10.gi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00000" y="4005360"/>
            <a:ext cx="2328840" cy="2092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5" descr="x_lincamina"/>
          <p:cNvPicPr/>
          <p:nvPr/>
        </p:nvPicPr>
        <p:blipFill>
          <a:blip r:embed="rId4"/>
          <a:stretch/>
        </p:blipFill>
        <p:spPr>
          <a:xfrm>
            <a:off x="1908000" y="4941720"/>
            <a:ext cx="6204240" cy="1152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3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4000"/>
                            </p:stCondLst>
                            <p:childTnLst>
                              <p:par>
                                <p:cTn id="25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3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3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7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1300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8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4T10:02:54Z</dcterms:created>
  <dc:creator>Eva</dc:creator>
  <dc:description/>
  <dc:language>en-US</dc:language>
  <cp:lastModifiedBy>usuario</cp:lastModifiedBy>
  <dcterms:modified xsi:type="dcterms:W3CDTF">2014-05-14T14:31:20Z</dcterms:modified>
  <cp:revision>83</cp:revision>
  <dc:subject/>
  <dc:title>Picture telling</dc:title>
</cp:coreProperties>
</file>