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gif" ContentType="image/gif"/>
  <Override PartName="/ppt/media/image18.png" ContentType="image/png"/>
  <Override PartName="/ppt/media/image15.gif" ContentType="image/gif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12B5-4511-49FE-8189-107287017A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92D5-CE88-4C8C-AF55-0325314FE1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624-0F33-4C3A-8285-69D7E849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88E-7840-4D59-8306-7E18637F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5A4-81CB-40DC-A49F-097AF136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9B9-EA81-4E20-B6FA-B29E7492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51DF-8A27-4032-BB18-FC6B9D22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80E0-257F-4AA2-86F9-3528D73A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6329-8770-40C9-A21A-9B5A3D48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8664-78BC-4152-8511-5013BEB6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287E-261A-4512-90FE-39DD7527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AA84-FDA7-43C3-A552-F4380D49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4D17-39E5-4BD4-B62D-ABFB7D9D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3B9-5D54-4F3A-BA5E-8FE4A574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C427-01DA-4475-8F38-20A3804A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246D-E58B-4AE2-8033-DBE65673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E5FF-A1E2-45EF-8B0D-1C813302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7377-7197-4BDE-96AC-5E750402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C958-7D1F-4C8E-9018-F780CC77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000-DC92-42CB-AC76-0CD847E0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05E-55B3-4277-ADDB-01689069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D7B-2E45-4E9F-9F56-E35B20F1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174-ED9A-447F-9688-44DC1C47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D9C-5FEA-48A4-B913-1CBE8D90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4F8-E021-4C9C-B953-192FF0FE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2AC-4A3B-4625-A6E0-1354C1FA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2161-E3AD-417E-9C08-193558C23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71F0-5374-4C30-A85C-2A5541328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ntrez%20chez%20moi.ppsx" TargetMode="External"/><Relationship Id="rId2" Type="http://schemas.openxmlformats.org/officeDocument/2006/relationships/hyperlink" Target="https://www.dropbox.com/s/resrniojpb4cf3v/Entrez%20chez%20moi5.ppsx" TargetMode="External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Picture tell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MV Boli"/>
              </a:rPr>
              <a:t>Photo mystéri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3846600" y="2846520"/>
            <a:ext cx="1670040" cy="1049040"/>
          </a:xfrm>
          <a:prstGeom prst="rect">
            <a:avLst/>
          </a:prstGeom>
          <a:ln w="0">
            <a:noFill/>
          </a:ln>
        </p:spPr>
      </p:pic>
      <p:pic>
        <p:nvPicPr>
          <p:cNvPr id="92" name="officeArt object" descr=""/>
          <p:cNvPicPr/>
          <p:nvPr/>
        </p:nvPicPr>
        <p:blipFill>
          <a:blip r:embed="rId2"/>
          <a:stretch/>
        </p:blipFill>
        <p:spPr>
          <a:xfrm>
            <a:off x="317520" y="255600"/>
            <a:ext cx="1450800" cy="130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Un jour quelqu’un so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340000" y="3860280"/>
            <a:ext cx="5464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Qui est-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À vos plumes, racontez moi to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4 Imagen" descr="sonnette.jpg"/>
          <p:cNvPicPr/>
          <p:nvPr/>
        </p:nvPicPr>
        <p:blipFill>
          <a:blip r:embed="rId1"/>
          <a:stretch/>
        </p:blipFill>
        <p:spPr>
          <a:xfrm>
            <a:off x="539640" y="549360"/>
            <a:ext cx="2508480" cy="1882800"/>
          </a:xfrm>
          <a:prstGeom prst="rect">
            <a:avLst/>
          </a:prstGeom>
          <a:ln w="0">
            <a:noFill/>
          </a:ln>
        </p:spPr>
      </p:pic>
      <p:pic>
        <p:nvPicPr>
          <p:cNvPr id="131" name="Sonido grabado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433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222222"/>
                </a:solidFill>
                <a:latin typeface="MV Boli"/>
                <a:ea typeface="Calibri"/>
              </a:rPr>
              <a:t>C’est la photo d’un paysage</a:t>
            </a:r>
            <a:br>
              <a:rPr sz="4400"/>
            </a:b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3 Marcador de contenido" descr="Silvijas Kupri.jpg"/>
          <p:cNvPicPr/>
          <p:nvPr/>
        </p:nvPicPr>
        <p:blipFill>
          <a:blip r:embed="rId1"/>
          <a:stretch/>
        </p:blipFill>
        <p:spPr>
          <a:xfrm>
            <a:off x="1359000" y="3279600"/>
            <a:ext cx="6492600" cy="2992680"/>
          </a:xfrm>
          <a:prstGeom prst="rect">
            <a:avLst/>
          </a:prstGeom>
          <a:ln w="0">
            <a:noFill/>
          </a:ln>
        </p:spPr>
      </p:pic>
      <p:sp>
        <p:nvSpPr>
          <p:cNvPr id="95" name="4 CuadroTexto"/>
          <p:cNvSpPr/>
          <p:nvPr/>
        </p:nvSpPr>
        <p:spPr>
          <a:xfrm>
            <a:off x="611280" y="1700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Fermez les yeux quelques secondes …</a:t>
            </a:r>
            <a:r>
              <a:rPr b="0" lang="fr-FR" sz="3200" spc="-1" strike="noStrike">
                <a:solidFill>
                  <a:srgbClr val="222222"/>
                </a:solidFill>
                <a:latin typeface="Comic Sans MS"/>
                <a:ea typeface="Calibri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Quel paysage imaginez-vous 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222222"/>
                </a:solidFill>
                <a:latin typeface="MV Boli"/>
                <a:ea typeface="Calibri"/>
              </a:rPr>
              <a:t>Sur</a:t>
            </a:r>
            <a:r>
              <a:rPr b="0" lang="fr-FR" sz="4400" spc="-1" strike="noStrike">
                <a:solidFill>
                  <a:srgbClr val="000000"/>
                </a:solidFill>
                <a:latin typeface="MV Boli"/>
              </a:rPr>
              <a:t> ma photo il y a beaucoup de couleu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Que pensez-vous que ça peut être?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MV Bol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2286000" y="2413080"/>
            <a:ext cx="457200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MV Boli"/>
                <a:ea typeface="MV Boli"/>
              </a:rPr>
              <a:t>Il y a 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MV Boli"/>
                <a:ea typeface="MV Boli"/>
              </a:rPr>
              <a:t>de l’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MV Boli"/>
                <a:ea typeface="MV Boli"/>
              </a:rPr>
              <a:t>du bl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MV Boli"/>
                <a:ea typeface="MV Boli"/>
              </a:rPr>
              <a:t>du 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MV Boli"/>
                <a:ea typeface="MV Boli"/>
              </a:rPr>
              <a:t>du bla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MV Boli"/>
                <a:ea typeface="MV Boli"/>
              </a:rPr>
              <a:t>du ro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57600" t="47534" r="37361" b="50312"/>
          <a:stretch/>
        </p:blipFill>
        <p:spPr>
          <a:xfrm>
            <a:off x="2843280" y="5516640"/>
            <a:ext cx="168444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rcRect l="49682" t="0" r="33046" b="91364"/>
          <a:stretch/>
        </p:blipFill>
        <p:spPr>
          <a:xfrm>
            <a:off x="1187280" y="3860640"/>
            <a:ext cx="1285920" cy="6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rcRect l="56164" t="41052" r="30885" b="54633"/>
          <a:stretch/>
        </p:blipFill>
        <p:spPr>
          <a:xfrm>
            <a:off x="1114560" y="4941720"/>
            <a:ext cx="1728720" cy="57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4"/>
          <a:srcRect l="72718" t="26539" r="24277" b="70809"/>
          <a:stretch/>
        </p:blipFill>
        <p:spPr>
          <a:xfrm>
            <a:off x="2916360" y="3357720"/>
            <a:ext cx="1390680" cy="122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5"/>
          <a:srcRect l="32403" t="58337" r="46003" b="35187"/>
          <a:stretch/>
        </p:blipFill>
        <p:spPr>
          <a:xfrm>
            <a:off x="468360" y="2924280"/>
            <a:ext cx="1681200" cy="50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Il y a aussi différentes matiè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de la pi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du bo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  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du 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de la t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MV Boli"/>
              </a:rPr>
              <a:t>Que pensez-vous que ça peut être?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MV Bol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5 Imagen" descr="pierres.jpg"/>
          <p:cNvPicPr/>
          <p:nvPr/>
        </p:nvPicPr>
        <p:blipFill>
          <a:blip r:embed="rId1"/>
          <a:stretch/>
        </p:blipFill>
        <p:spPr>
          <a:xfrm>
            <a:off x="4780080" y="1547640"/>
            <a:ext cx="1296720" cy="976320"/>
          </a:xfrm>
          <a:prstGeom prst="rect">
            <a:avLst/>
          </a:prstGeom>
          <a:ln w="0">
            <a:noFill/>
          </a:ln>
        </p:spPr>
      </p:pic>
      <p:pic>
        <p:nvPicPr>
          <p:cNvPr id="107" name="4 Imagen" descr="pierre.jpg"/>
          <p:cNvPicPr/>
          <p:nvPr/>
        </p:nvPicPr>
        <p:blipFill>
          <a:blip r:embed="rId2"/>
          <a:stretch/>
        </p:blipFill>
        <p:spPr>
          <a:xfrm>
            <a:off x="3348000" y="1341360"/>
            <a:ext cx="1430280" cy="1440000"/>
          </a:xfrm>
          <a:prstGeom prst="rect">
            <a:avLst/>
          </a:prstGeom>
          <a:ln w="0">
            <a:noFill/>
          </a:ln>
        </p:spPr>
      </p:pic>
      <p:pic>
        <p:nvPicPr>
          <p:cNvPr id="108" name="6 Imagen" descr="sable.jpg"/>
          <p:cNvPicPr/>
          <p:nvPr/>
        </p:nvPicPr>
        <p:blipFill>
          <a:blip r:embed="rId3"/>
          <a:stretch/>
        </p:blipFill>
        <p:spPr>
          <a:xfrm>
            <a:off x="3635280" y="3573360"/>
            <a:ext cx="1646280" cy="1244880"/>
          </a:xfrm>
          <a:prstGeom prst="rect">
            <a:avLst/>
          </a:prstGeom>
          <a:ln w="0">
            <a:noFill/>
          </a:ln>
        </p:spPr>
      </p:pic>
      <p:pic>
        <p:nvPicPr>
          <p:cNvPr id="109" name="7 Imagen" descr="de la terre.jpg"/>
          <p:cNvPicPr/>
          <p:nvPr/>
        </p:nvPicPr>
        <p:blipFill>
          <a:blip r:embed="rId4"/>
          <a:stretch/>
        </p:blipFill>
        <p:spPr>
          <a:xfrm>
            <a:off x="1763640" y="4869000"/>
            <a:ext cx="2016360" cy="1147680"/>
          </a:xfrm>
          <a:prstGeom prst="rect">
            <a:avLst/>
          </a:prstGeom>
          <a:ln w="0">
            <a:noFill/>
          </a:ln>
        </p:spPr>
      </p:pic>
      <p:pic>
        <p:nvPicPr>
          <p:cNvPr id="110" name="9 Imagen" descr="bois.jpg"/>
          <p:cNvPicPr/>
          <p:nvPr/>
        </p:nvPicPr>
        <p:blipFill>
          <a:blip r:embed="rId5"/>
          <a:stretch/>
        </p:blipFill>
        <p:spPr>
          <a:xfrm>
            <a:off x="5651640" y="2492280"/>
            <a:ext cx="2054160" cy="118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222222"/>
                </a:solidFill>
                <a:latin typeface="MV Boli"/>
                <a:ea typeface="Calibri"/>
              </a:rPr>
              <a:t>C’est probablement l’été</a:t>
            </a:r>
            <a:br>
              <a:rPr sz="2400"/>
            </a:br>
            <a:r>
              <a:rPr b="0" lang="fr-FR" sz="44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Qu’est-ce qui me fait penser ça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12 Imagen" descr="actividad Isabel Eva2.jpg"/>
          <p:cNvPicPr/>
          <p:nvPr/>
        </p:nvPicPr>
        <p:blipFill>
          <a:blip r:embed="rId1"/>
          <a:stretch/>
        </p:blipFill>
        <p:spPr>
          <a:xfrm>
            <a:off x="1476360" y="2276640"/>
            <a:ext cx="6804000" cy="38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Sur ma photo il y a deux bât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  <a:ea typeface="Calibri"/>
              </a:rPr>
              <a:t>Qu’y a-t-il d’aut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u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beaucoup 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quel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3 Imagen" descr="actividad Isabel Eva3.jpg"/>
          <p:cNvPicPr/>
          <p:nvPr/>
        </p:nvPicPr>
        <p:blipFill>
          <a:blip r:embed="rId1"/>
          <a:stretch/>
        </p:blipFill>
        <p:spPr>
          <a:xfrm>
            <a:off x="3995640" y="2852640"/>
            <a:ext cx="4737240" cy="26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Imaginez-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300816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Il y a deux ma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4 Imagen" descr="actividad Isabel Eva4.jpg"/>
          <p:cNvPicPr/>
          <p:nvPr/>
        </p:nvPicPr>
        <p:blipFill>
          <a:blip r:embed="rId1"/>
          <a:stretch/>
        </p:blipFill>
        <p:spPr>
          <a:xfrm>
            <a:off x="1395360" y="2414520"/>
            <a:ext cx="6962760" cy="39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Voilà ma ph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3 Marcador de contenido" descr="Silvijas Kupri.jpg"/>
          <p:cNvPicPr/>
          <p:nvPr/>
        </p:nvPicPr>
        <p:blipFill>
          <a:blip r:embed="rId1"/>
          <a:srcRect l="0" t="0" r="0" b="33191"/>
          <a:stretch/>
        </p:blipFill>
        <p:spPr>
          <a:xfrm>
            <a:off x="2484360" y="2924280"/>
            <a:ext cx="4525920" cy="3024000"/>
          </a:xfrm>
          <a:prstGeom prst="rect">
            <a:avLst/>
          </a:prstGeom>
          <a:ln w="0">
            <a:noFill/>
          </a:ln>
        </p:spPr>
      </p:pic>
      <p:sp>
        <p:nvSpPr>
          <p:cNvPr id="123" name="3 CuadroTexto"/>
          <p:cNvSpPr/>
          <p:nvPr/>
        </p:nvSpPr>
        <p:spPr>
          <a:xfrm>
            <a:off x="611280" y="11970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Elle ressemble à celle que vous imagini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Quelles différences y a-t-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Et les pièces des mais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Combien de pièces y a-t-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Comment sont-el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Apportez chacun une photo de votre pièce préférée et décrivez-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MV Boli"/>
              </a:rPr>
              <a:t>               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MV Boli"/>
                <a:hlinkClick r:id="rId1"/>
              </a:rPr>
              <a:t>Entrez chez mo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4 Imagen" descr="puertas-10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4005360"/>
            <a:ext cx="2328840" cy="209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" descr="x_lincamina"/>
          <p:cNvPicPr/>
          <p:nvPr/>
        </p:nvPicPr>
        <p:blipFill>
          <a:blip r:embed="rId4"/>
          <a:stretch/>
        </p:blipFill>
        <p:spPr>
          <a:xfrm>
            <a:off x="2050920" y="4797360"/>
            <a:ext cx="6204240" cy="11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0:02:54Z</dcterms:created>
  <dc:creator>Eva</dc:creator>
  <dc:description/>
  <dc:language>en-US</dc:language>
  <cp:lastModifiedBy>Eva</cp:lastModifiedBy>
  <dcterms:modified xsi:type="dcterms:W3CDTF">2014-05-06T18:36:27Z</dcterms:modified>
  <cp:revision>56</cp:revision>
  <dc:subject/>
  <dc:title>Picture telling</dc:title>
</cp:coreProperties>
</file>