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6.gif" ContentType="image/gif"/>
  <Override PartName="/ppt/media/image18.png" ContentType="image/png"/>
  <Override PartName="/ppt/media/image15.gif" ContentType="image/gif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4E4FF-C01F-438B-8410-D6424464F7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A422-B1EA-4531-B1A4-F3C97AD5F75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95C0-F1AB-49B9-B302-986BF7732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1C2B-AD7F-407C-B41A-35305EB21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656-539C-4488-BF5D-2D7B1369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41F3-DF7F-482D-98BE-4F8522D48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01DC6-34C8-4B16-B35F-8E88A1C19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13DC-B6F6-43A2-BB15-ACF6260BD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513F-6915-4646-8DF3-B13B0C4B4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E7173-1794-4EE0-8F6A-5A210E11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FA3D-9498-43AE-A490-C1205EE1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0D51-6E25-42C1-9B93-DC7F4E0AE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5A2E-6CDA-47F6-AD5B-B8B4F400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B402-9949-4559-84ED-FC15DD67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1EECB-6B16-48B5-9546-204AE0B91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84657-F4CF-474F-BAB0-C631580E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283E-74BA-465C-8D68-894E33A8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53733-81AA-484B-9B7E-E4561FD9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A3285-D415-46FC-B210-E87F6B6EE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B8F-0EBC-41EF-8B5F-42B0AAEB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AED2-01D2-47E4-BB1D-599F61921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B13-369E-40B5-A593-76DFCDCA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D307-2904-4AED-AAAB-833BFA7E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B294-5CA2-4473-89F1-A20DE9F47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36FA-420C-469F-99BD-55CA06010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573-6C55-4498-A316-0BE1A9A4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9CA6-6840-40A0-9604-D1B45DB9AA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D9FA-1F7C-44F5-B897-D3074B480D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ntrez%20chez%20moi.ppsx" TargetMode="External"/><Relationship Id="rId2" Type="http://schemas.openxmlformats.org/officeDocument/2006/relationships/hyperlink" Target="https://www.dropbox.com/s/resrniojpb4cf3v/Entrez%20chez%20moi5.ppsx" TargetMode="External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Picture tell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Photo mystérie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3846600" y="2846520"/>
            <a:ext cx="1670040" cy="1049040"/>
          </a:xfrm>
          <a:prstGeom prst="rect">
            <a:avLst/>
          </a:prstGeom>
          <a:ln w="0">
            <a:noFill/>
          </a:ln>
        </p:spPr>
      </p:pic>
      <p:pic>
        <p:nvPicPr>
          <p:cNvPr id="92" name="officeArt object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1450800" cy="13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5280" y="227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Un jour quelqu’un son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340000" y="3860280"/>
            <a:ext cx="546408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Qui est-c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À vos plumes, racontez moi tou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4 Imagen" descr="sonnette.jpg"/>
          <p:cNvPicPr/>
          <p:nvPr/>
        </p:nvPicPr>
        <p:blipFill>
          <a:blip r:embed="rId1"/>
          <a:stretch/>
        </p:blipFill>
        <p:spPr>
          <a:xfrm>
            <a:off x="539640" y="549360"/>
            <a:ext cx="2508480" cy="1882800"/>
          </a:xfrm>
          <a:prstGeom prst="rect">
            <a:avLst/>
          </a:prstGeom>
          <a:ln w="0">
            <a:noFill/>
          </a:ln>
        </p:spPr>
      </p:pic>
      <p:pic>
        <p:nvPicPr>
          <p:cNvPr id="131" name="Sonido grabado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1000"/>
                            </p:stCondLst>
                            <p:childTnLst>
                              <p:par>
                                <p:cTn id="30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4000"/>
                            </p:stCondLst>
                            <p:childTnLst>
                              <p:par>
                                <p:cTn id="31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4338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222222"/>
                </a:solidFill>
                <a:latin typeface="MV Boli"/>
                <a:ea typeface="Calibri"/>
              </a:rPr>
              <a:t>C’est la photo d’un paysage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3 Marcador de contenido" descr="Silvijas Kupri.jpg"/>
          <p:cNvPicPr/>
          <p:nvPr/>
        </p:nvPicPr>
        <p:blipFill>
          <a:blip r:embed="rId1"/>
          <a:stretch/>
        </p:blipFill>
        <p:spPr>
          <a:xfrm>
            <a:off x="1359000" y="3279600"/>
            <a:ext cx="6492600" cy="299268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611280" y="17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Fermez les yeux quelques secondes …</a:t>
            </a:r>
            <a:r>
              <a:rPr b="0" lang="fr-FR" sz="3200" spc="-1" strike="noStrike">
                <a:solidFill>
                  <a:srgbClr val="222222"/>
                </a:solidFill>
                <a:latin typeface="Comic Sans MS"/>
                <a:ea typeface="Calibri"/>
              </a:rPr>
              <a:t> </a:t>
            </a:r>
            <a:br>
              <a:rPr sz="3200"/>
            </a:b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Quel paysage imaginez-vous 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fr-FR" sz="4400" spc="-1" strike="noStrike">
                <a:solidFill>
                  <a:srgbClr val="222222"/>
                </a:solidFill>
                <a:latin typeface="MV Boli"/>
                <a:ea typeface="Calibri"/>
              </a:rPr>
              <a:t>Sur</a:t>
            </a:r>
            <a:r>
              <a:rPr b="0" lang="fr-FR" sz="4400" spc="-1" strike="noStrike">
                <a:solidFill>
                  <a:srgbClr val="000000"/>
                </a:solidFill>
                <a:latin typeface="MV Boli"/>
              </a:rPr>
              <a:t> ma photo il y a beaucoup de couleu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3964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Que pensez-vous que ça peut être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2286000" y="2413080"/>
            <a:ext cx="4572000" cy="30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Il y a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e l’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u bl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u v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u bla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MV Boli"/>
                <a:ea typeface="MV Boli"/>
              </a:rPr>
              <a:t>du rou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57600" t="47534" r="37361" b="50312"/>
          <a:stretch/>
        </p:blipFill>
        <p:spPr>
          <a:xfrm>
            <a:off x="2843280" y="5516640"/>
            <a:ext cx="168444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rcRect l="49682" t="0" r="33046" b="91364"/>
          <a:stretch/>
        </p:blipFill>
        <p:spPr>
          <a:xfrm>
            <a:off x="1187280" y="3860640"/>
            <a:ext cx="1285920" cy="6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rcRect l="56164" t="41052" r="30885" b="54633"/>
          <a:stretch/>
        </p:blipFill>
        <p:spPr>
          <a:xfrm>
            <a:off x="1114560" y="4941720"/>
            <a:ext cx="1728720" cy="57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4"/>
          <a:srcRect l="72718" t="26539" r="24277" b="70809"/>
          <a:stretch/>
        </p:blipFill>
        <p:spPr>
          <a:xfrm>
            <a:off x="2916360" y="3357720"/>
            <a:ext cx="1390680" cy="122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5"/>
          <a:srcRect l="32403" t="58337" r="46003" b="35187"/>
          <a:stretch/>
        </p:blipFill>
        <p:spPr>
          <a:xfrm>
            <a:off x="468360" y="2924280"/>
            <a:ext cx="168120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1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3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Il y a aussi différentes matiè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de la pi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du bo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  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du s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de la t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Que pensez-vous que ça peut être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5 Imagen" descr="pierres.jpg"/>
          <p:cNvPicPr/>
          <p:nvPr/>
        </p:nvPicPr>
        <p:blipFill>
          <a:blip r:embed="rId1"/>
          <a:stretch/>
        </p:blipFill>
        <p:spPr>
          <a:xfrm>
            <a:off x="4780080" y="1547640"/>
            <a:ext cx="1296720" cy="976320"/>
          </a:xfrm>
          <a:prstGeom prst="rect">
            <a:avLst/>
          </a:prstGeom>
          <a:ln w="0">
            <a:noFill/>
          </a:ln>
        </p:spPr>
      </p:pic>
      <p:pic>
        <p:nvPicPr>
          <p:cNvPr id="107" name="4 Imagen" descr="pierre.jpg"/>
          <p:cNvPicPr/>
          <p:nvPr/>
        </p:nvPicPr>
        <p:blipFill>
          <a:blip r:embed="rId2"/>
          <a:stretch/>
        </p:blipFill>
        <p:spPr>
          <a:xfrm>
            <a:off x="3348000" y="1341360"/>
            <a:ext cx="14302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6 Imagen" descr="sable.jpg"/>
          <p:cNvPicPr/>
          <p:nvPr/>
        </p:nvPicPr>
        <p:blipFill>
          <a:blip r:embed="rId3"/>
          <a:stretch/>
        </p:blipFill>
        <p:spPr>
          <a:xfrm>
            <a:off x="3635280" y="3573360"/>
            <a:ext cx="1646280" cy="1244880"/>
          </a:xfrm>
          <a:prstGeom prst="rect">
            <a:avLst/>
          </a:prstGeom>
          <a:ln w="0">
            <a:noFill/>
          </a:ln>
        </p:spPr>
      </p:pic>
      <p:pic>
        <p:nvPicPr>
          <p:cNvPr id="109" name="7 Imagen" descr="de la terre.jpg"/>
          <p:cNvPicPr/>
          <p:nvPr/>
        </p:nvPicPr>
        <p:blipFill>
          <a:blip r:embed="rId4"/>
          <a:stretch/>
        </p:blipFill>
        <p:spPr>
          <a:xfrm>
            <a:off x="1763640" y="4869000"/>
            <a:ext cx="2016360" cy="1147680"/>
          </a:xfrm>
          <a:prstGeom prst="rect">
            <a:avLst/>
          </a:prstGeom>
          <a:ln w="0">
            <a:noFill/>
          </a:ln>
        </p:spPr>
      </p:pic>
      <p:pic>
        <p:nvPicPr>
          <p:cNvPr id="110" name="9 Imagen" descr="bois.jpg"/>
          <p:cNvPicPr/>
          <p:nvPr/>
        </p:nvPicPr>
        <p:blipFill>
          <a:blip r:embed="rId5"/>
          <a:stretch/>
        </p:blipFill>
        <p:spPr>
          <a:xfrm>
            <a:off x="5651640" y="2492280"/>
            <a:ext cx="2054160" cy="1182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3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1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3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3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3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fr-FR" sz="4400" spc="-1" strike="noStrike">
                <a:solidFill>
                  <a:srgbClr val="222222"/>
                </a:solidFill>
                <a:latin typeface="MV Boli"/>
                <a:ea typeface="Calibri"/>
              </a:rPr>
              <a:t>C’est probablement l’été</a:t>
            </a:r>
            <a:br>
              <a:rPr sz="2400"/>
            </a:br>
            <a:r>
              <a:rPr b="0" lang="fr-FR" sz="44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Qu’est-ce qui me fait penser ça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2 Imagen" descr="actividad Isabel Eva2.jpg"/>
          <p:cNvPicPr/>
          <p:nvPr/>
        </p:nvPicPr>
        <p:blipFill>
          <a:blip r:embed="rId1"/>
          <a:stretch/>
        </p:blipFill>
        <p:spPr>
          <a:xfrm>
            <a:off x="1476360" y="2276640"/>
            <a:ext cx="6804000" cy="38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40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Sur ma photo il y a deux bât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Qu’y a-t-il d’aut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u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u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beaucoup 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  <a:ea typeface="Calibri"/>
              </a:rPr>
              <a:t>quelq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Imagen" descr="actividad Isabel Eva3.jpg"/>
          <p:cNvPicPr/>
          <p:nvPr/>
        </p:nvPicPr>
        <p:blipFill>
          <a:blip r:embed="rId1"/>
          <a:stretch/>
        </p:blipFill>
        <p:spPr>
          <a:xfrm>
            <a:off x="3995640" y="2852640"/>
            <a:ext cx="4737240" cy="26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3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3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Imaginez-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300816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Il y a deux mais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4 Imagen" descr="actividad Isabel Eva4.jpg"/>
          <p:cNvPicPr/>
          <p:nvPr/>
        </p:nvPicPr>
        <p:blipFill>
          <a:blip r:embed="rId1"/>
          <a:stretch/>
        </p:blipFill>
        <p:spPr>
          <a:xfrm>
            <a:off x="1395360" y="2414520"/>
            <a:ext cx="6962760" cy="39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000"/>
                            </p:stCondLst>
                            <p:childTnLst>
                              <p:par>
                                <p:cTn id="2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Voilà ma ph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3 Marcador de contenido" descr="Silvijas Kupri.jpg"/>
          <p:cNvPicPr/>
          <p:nvPr/>
        </p:nvPicPr>
        <p:blipFill>
          <a:blip r:embed="rId1"/>
          <a:srcRect l="0" t="0" r="0" b="33191"/>
          <a:stretch/>
        </p:blipFill>
        <p:spPr>
          <a:xfrm>
            <a:off x="2484360" y="2924280"/>
            <a:ext cx="452592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3 CuadroTexto"/>
          <p:cNvSpPr/>
          <p:nvPr/>
        </p:nvSpPr>
        <p:spPr>
          <a:xfrm>
            <a:off x="611280" y="1197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Elle ressemble à celle que vous imagini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Quelles différences y a-t-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Et les pièces des mais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Combien de pièces y a-t-i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Comment sont-el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Apportez chacun une photo de votre pièce préférée et décrivez-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              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MV Boli"/>
                <a:hlinkClick r:id="rId1"/>
              </a:rPr>
              <a:t>Entrez chez moi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4 Imagen" descr="puertas-10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4005360"/>
            <a:ext cx="2328840" cy="20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x_lincamina"/>
          <p:cNvPicPr/>
          <p:nvPr/>
        </p:nvPicPr>
        <p:blipFill>
          <a:blip r:embed="rId4"/>
          <a:stretch/>
        </p:blipFill>
        <p:spPr>
          <a:xfrm>
            <a:off x="2050920" y="4797360"/>
            <a:ext cx="620424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7000"/>
                            </p:stCondLst>
                            <p:childTnLst>
                              <p:par>
                                <p:cTn id="2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3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3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0:02:54Z</dcterms:created>
  <dc:creator>Eva</dc:creator>
  <dc:description/>
  <dc:language>en-US</dc:language>
  <cp:lastModifiedBy>Eva</cp:lastModifiedBy>
  <dcterms:modified xsi:type="dcterms:W3CDTF">2014-05-06T18:36:27Z</dcterms:modified>
  <cp:revision>56</cp:revision>
  <dc:subject/>
  <dc:title>Picture telling</dc:title>
</cp:coreProperties>
</file>