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E047-A73C-4064-9EC9-789627F8B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4F2F-BA36-453B-8954-7B9868A0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D635-2BFF-49F6-A282-1406DB791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34A9-5371-4547-A085-547E45A0F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F1E7C-9DD7-4662-A56F-96B7430F0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55A6-0D59-4937-971D-86F0CDFF8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18C8-2931-41EA-AE2E-49B78161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C5B4-FF23-4A30-9849-A53019C62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8D6E-FD23-4524-86CC-EFE118505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31AD3-38D9-4C93-9A94-01A2CE2B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8623-7649-4D87-BC1B-724DF081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5156-6121-4AD8-B032-1BFF492D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5599-5704-40BB-B801-DDCB84DB7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B9818-FF42-42CA-91C1-4FFA56D32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561-F260-4D6D-B0A4-E61E3958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06A31-B506-4852-ADA2-CA07E3D54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75248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394200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1E97F-1F3E-47D3-890B-41CE98216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F98E-0CB1-4AE4-9AC2-99AE232CB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1610-2901-4F87-8FAE-F83F38E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536-220B-40B1-94AB-69F8086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2ADB-1C1E-4817-9D29-D1F6CBF5F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BD9FA-B3D7-408C-B91E-E86B37CE8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94200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C8B5-F863-4B85-92B4-6C100310A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75248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4200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0651-798C-42D3-8B95-89EA0D3B6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b8ff"/>
            </a:gs>
            <a:gs pos="100000">
              <a:srgbClr val="df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1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4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9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10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2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13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3E5-7478-4EA5-9577-F7F046E9CC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7b8ff"/>
            </a:gs>
            <a:gs pos="100000">
              <a:srgbClr val="dfe8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7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8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0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1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2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3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5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66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8" name="Group 14"/>
          <p:cNvGrpSpPr/>
          <p:nvPr/>
        </p:nvGrpSpPr>
        <p:grpSpPr>
          <a:xfrm>
            <a:off x="71280" y="176040"/>
            <a:ext cx="8745840" cy="161280"/>
            <a:chOff x="71280" y="176040"/>
            <a:chExt cx="8745840" cy="161280"/>
          </a:xfrm>
        </p:grpSpPr>
        <p:sp>
          <p:nvSpPr>
            <p:cNvPr id="69" name="Rectangle 15"/>
            <p:cNvSpPr/>
            <p:nvPr/>
          </p:nvSpPr>
          <p:spPr>
            <a:xfrm flipV="1" rot="5400000">
              <a:off x="452448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" name="Rectangle 16"/>
            <p:cNvSpPr/>
            <p:nvPr/>
          </p:nvSpPr>
          <p:spPr>
            <a:xfrm flipV="1" rot="5400000">
              <a:off x="4413960" y="-4166640"/>
              <a:ext cx="60480" cy="874584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1" name="Group 2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72" name="Rectangle 3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" name="Rectangle 4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4" name="Group 5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75" name="Rectangle 6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6" name="Rectangle 7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77" name="Group 8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78" name="Rectangle 9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9" name="Rectangle 10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0" name="Group 11"/>
          <p:cNvGrpSpPr/>
          <p:nvPr/>
        </p:nvGrpSpPr>
        <p:grpSpPr>
          <a:xfrm>
            <a:off x="76320" y="176040"/>
            <a:ext cx="8745120" cy="161640"/>
            <a:chOff x="76320" y="176040"/>
            <a:chExt cx="8745120" cy="161640"/>
          </a:xfrm>
        </p:grpSpPr>
        <p:sp>
          <p:nvSpPr>
            <p:cNvPr id="81" name="Rectangle 12"/>
            <p:cNvSpPr/>
            <p:nvPr/>
          </p:nvSpPr>
          <p:spPr>
            <a:xfrm flipV="1" rot="5400000">
              <a:off x="4529520" y="-3954240"/>
              <a:ext cx="59040" cy="852480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2" name="Rectangle 13"/>
            <p:cNvSpPr/>
            <p:nvPr/>
          </p:nvSpPr>
          <p:spPr>
            <a:xfrm flipV="1" rot="5400000">
              <a:off x="4417920" y="-4165560"/>
              <a:ext cx="60480" cy="874368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75248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9BAA-CF93-4C82-BE97-DA00E9CE843B}" type="slidenum">
              <a:rPr b="0" lang="en-GB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C:\Users\belenroza\Desktop\EOI\GRUNDTVIGVIP13_15\FotosMarkets\Chanel_Magasin_Paris_Belén.JPG"/>
          <p:cNvPicPr/>
          <p:nvPr/>
        </p:nvPicPr>
        <p:blipFill>
          <a:blip r:embed="rId1"/>
          <a:stretch/>
        </p:blipFill>
        <p:spPr>
          <a:xfrm>
            <a:off x="1332000" y="765000"/>
            <a:ext cx="6769080" cy="50770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3"/>
          <p:cNvSpPr/>
          <p:nvPr/>
        </p:nvSpPr>
        <p:spPr>
          <a:xfrm>
            <a:off x="1979640" y="58420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haroni"/>
              </a:rPr>
              <a:t>We are in Paris, France.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C:\Users\belenroza\Desktop\EOI\GRUNDTVIGVIP13_15\FotosMarkets\Chanel_Magasin_Paris_Belén.JPG"/>
          <p:cNvPicPr/>
          <p:nvPr/>
        </p:nvPicPr>
        <p:blipFill>
          <a:blip r:embed="rId1"/>
          <a:srcRect l="21892" t="38126" r="52697" b="0"/>
          <a:stretch/>
        </p:blipFill>
        <p:spPr>
          <a:xfrm>
            <a:off x="1187280" y="692280"/>
            <a:ext cx="2943360" cy="537372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"/>
          <p:cNvSpPr/>
          <p:nvPr/>
        </p:nvSpPr>
        <p:spPr>
          <a:xfrm>
            <a:off x="5322960" y="214488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´s your  occupation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5295960" y="981000"/>
            <a:ext cx="280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´s your ag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295960" y="1557360"/>
            <a:ext cx="337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´s your nationality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5295960" y="468360"/>
            <a:ext cx="29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‘s your nam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207040" y="4803840"/>
            <a:ext cx="351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are you looking a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5237280" y="3610080"/>
            <a:ext cx="329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Are you singl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5237280" y="4100400"/>
            <a:ext cx="32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are you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5237280" y="5291280"/>
            <a:ext cx="36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are you looking for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C:\Users\belenroza\Desktop\EOI\GRUNDTVIGVIP13_15\FotosMarkets\Chanel_Magasin_Paris_Belén.JPG"/>
          <p:cNvPicPr/>
          <p:nvPr/>
        </p:nvPicPr>
        <p:blipFill>
          <a:blip r:embed="rId1"/>
          <a:srcRect l="47660" t="40406" r="0" b="0"/>
          <a:stretch/>
        </p:blipFill>
        <p:spPr>
          <a:xfrm>
            <a:off x="2843280" y="907920"/>
            <a:ext cx="5692680" cy="51134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3"/>
          <p:cNvSpPr/>
          <p:nvPr/>
        </p:nvSpPr>
        <p:spPr>
          <a:xfrm>
            <a:off x="539640" y="692280"/>
            <a:ext cx="2087640" cy="59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haroni"/>
              </a:rPr>
              <a:t>This is your family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How many brothers have you go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do you liv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is your favorite hobby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ere is your backpac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C:\Users\belenroza\Desktop\EOI\GRUNDTVIGVIP13_15\FotosMarkets\Chanel_Magasin_Paris_Belén.JPG"/>
          <p:cNvPicPr/>
          <p:nvPr/>
        </p:nvPicPr>
        <p:blipFill>
          <a:blip r:embed="rId1"/>
          <a:srcRect l="0" t="44693" r="74429" b="0"/>
          <a:stretch/>
        </p:blipFill>
        <p:spPr>
          <a:xfrm>
            <a:off x="684360" y="384120"/>
            <a:ext cx="3382920" cy="5491080"/>
          </a:xfrm>
          <a:prstGeom prst="rect">
            <a:avLst/>
          </a:prstGeom>
          <a:ln w="0">
            <a:noFill/>
          </a:ln>
        </p:spPr>
      </p:pic>
      <p:sp>
        <p:nvSpPr>
          <p:cNvPr id="138" name="TextBox 3"/>
          <p:cNvSpPr/>
          <p:nvPr/>
        </p:nvSpPr>
        <p:spPr>
          <a:xfrm>
            <a:off x="4211640" y="384120"/>
            <a:ext cx="4392720" cy="54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haroni"/>
              </a:rPr>
              <a:t>These are your colleagues.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is your job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start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finish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time do you get up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have for breakfast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do after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haroni"/>
              </a:rPr>
              <a:t>What do you wear at work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5:40:24Z</dcterms:created>
  <dc:creator>Administrator</dc:creator>
  <dc:description/>
  <dc:language>en-US</dc:language>
  <cp:lastModifiedBy>HSajons</cp:lastModifiedBy>
  <dcterms:modified xsi:type="dcterms:W3CDTF">2015-05-27T15:39:17Z</dcterms:modified>
  <cp:revision>13</cp:revision>
  <dc:subject/>
  <dc:title>Wassily Kandinsky</dc:title>
</cp:coreProperties>
</file>