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3E3-E3F7-42A9-8DF6-4392A774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507-D18A-4DDD-BC0A-B0B7CA53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58E-4128-4B09-B4D3-394C3101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C90-6AF9-4EBD-A64A-4D90FD57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C99-2AA7-4C93-8D6F-CF87977D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5F18-D104-4971-B2C3-41F6805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B97D-55E7-4A99-BE97-8408B40C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D575-A74C-475F-8F10-04C0A43C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D07C-BFC7-4B44-A359-E3CEDC15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021-16C2-42DF-8C7B-AD7A9B18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36B0-A014-4688-98A1-CE5A63F0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FF7-603B-48D9-A223-94DF7990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D210-4908-470B-B967-02FE7FC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531E-3215-4BA2-9400-FD2383F8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613-A8D7-41A4-8C61-53F8BCFB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4802-C0D4-4885-AD6E-D8B7B1DA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8E36-3BBE-40DB-B359-67538B40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19A-1FEB-4B48-8EB1-3C6A75F4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23E-044F-44C8-BDCF-33C7893D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5D7-DE48-4AFE-81C9-273A0F2E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B5C-C055-4E8C-AF9F-5699C45A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D7E-0E18-4D9F-B36D-B266574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BDF-D146-4DA1-8F43-063B647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ACD-1753-468D-99F3-1BE1691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b8ff"/>
            </a:gs>
            <a:gs pos="100000">
              <a:srgbClr val="dfe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056B-806D-4D05-B1A4-F1F25A4539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b8ff"/>
            </a:gs>
            <a:gs pos="100000">
              <a:srgbClr val="dfe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69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1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2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4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5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8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81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259-1619-4BFE-A9C0-843706A6050E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belenroza\Desktop\EOI\GRUNDTVIGVIP13_15\FotosMarkets\Chanel_Magasin_Paris_Belén.JPG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5077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1979640" y="58420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haroni"/>
              </a:rPr>
              <a:t>We are in Paris, Franc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belenroza\Desktop\EOI\GRUNDTVIGVIP13_15\FotosMarkets\Chanel_Magasin_Paris_Belén.JPG"/>
          <p:cNvPicPr/>
          <p:nvPr/>
        </p:nvPicPr>
        <p:blipFill>
          <a:blip r:embed="rId1"/>
          <a:srcRect l="21892" t="38126" r="52697" b="0"/>
          <a:stretch/>
        </p:blipFill>
        <p:spPr>
          <a:xfrm>
            <a:off x="1187280" y="692280"/>
            <a:ext cx="2943360" cy="5373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5322960" y="21448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´s your  occupation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295960" y="981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´s your ag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295960" y="1557360"/>
            <a:ext cx="33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´s your nationality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295960" y="468360"/>
            <a:ext cx="29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‘s your nam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207040" y="4803840"/>
            <a:ext cx="35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are you looking at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5237280" y="3610080"/>
            <a:ext cx="32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Are you singl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5237280" y="4100400"/>
            <a:ext cx="32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ere are you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5237280" y="5291280"/>
            <a:ext cx="36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are you looking for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belenroza\Desktop\EOI\GRUNDTVIGVIP13_15\FotosMarkets\Chanel_Magasin_Paris_Belén.JPG"/>
          <p:cNvPicPr/>
          <p:nvPr/>
        </p:nvPicPr>
        <p:blipFill>
          <a:blip r:embed="rId1"/>
          <a:srcRect l="47660" t="40406" r="0" b="0"/>
          <a:stretch/>
        </p:blipFill>
        <p:spPr>
          <a:xfrm>
            <a:off x="2843280" y="907920"/>
            <a:ext cx="5692680" cy="5113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539640" y="692280"/>
            <a:ext cx="208764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haroni"/>
              </a:rPr>
              <a:t>This is your famil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How many brothers have you got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ere do you liv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is your favorite hobby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ere is your backpac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belenroza\Desktop\EOI\GRUNDTVIGVIP13_15\FotosMarkets\Chanel_Magasin_Paris_Belén.JPG"/>
          <p:cNvPicPr/>
          <p:nvPr/>
        </p:nvPicPr>
        <p:blipFill>
          <a:blip r:embed="rId1"/>
          <a:srcRect l="0" t="44693" r="74429" b="0"/>
          <a:stretch/>
        </p:blipFill>
        <p:spPr>
          <a:xfrm>
            <a:off x="684360" y="384120"/>
            <a:ext cx="3382920" cy="5491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4211640" y="384120"/>
            <a:ext cx="4392720" cy="54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haroni"/>
              </a:rPr>
              <a:t>These are your colleagu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is your job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time do you start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time do you finish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time do you get up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do you have for breakfast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do you do after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do you wear at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5:40:24Z</dcterms:created>
  <dc:creator>Administrator</dc:creator>
  <dc:description/>
  <dc:language>en-US</dc:language>
  <cp:lastModifiedBy>HSajons</cp:lastModifiedBy>
  <dcterms:modified xsi:type="dcterms:W3CDTF">2015-05-27T15:39:17Z</dcterms:modified>
  <cp:revision>13</cp:revision>
  <dc:subject/>
  <dc:title>Wassily Kandinsky</dc:title>
</cp:coreProperties>
</file>